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CE9-8E84-4875-A48E-C7E24CA2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13A-6C7D-4BC6-8834-A0DFDB98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838-31C3-4BC1-8FD1-812D73EC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ADF-B677-43BC-9178-AB23D3BC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9E7E-6766-44B6-9699-5B483CCF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4EC6-BE6E-4AFD-BECD-22485CF8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A63A-27CA-40FC-895A-0CA04031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EE8A-5EA8-4ABF-A5B0-FCE6612F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E9DE-FE5D-4C12-A3C1-5F6E0638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E2D4-07D7-4FCD-8B26-00E5D3E1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FEE0-3A12-4966-9678-1B6D6008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8BF-88CC-4B27-9C27-1E42D60F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0625-9012-4229-9370-ADC1AFC1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0E13-C674-4596-B6CA-8CF8FB92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9427-B313-4526-BA31-62B9D4DD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3BFC-817C-4876-A9F5-EDEC383E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E8E2-337F-4C94-A545-BA4E049D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B88C-A4A1-4F2D-BAEC-C2A1720E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5FA-2A7E-4C5C-9033-A12C2A53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D0BB-D986-4B6E-A37F-90DFF368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72B-86F8-4890-A0E0-7FF92817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CD7-2FB5-4A99-ACAB-4C4F225E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A8F-4C6F-4459-B5A2-E1CF85A1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259-7CD8-483D-B159-7D3E7E28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CB5D-6246-4CC4-AF25-B1BACBD7E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Century Gothic"/>
              </a:rPr>
              <a:t>Click to edit the title text format</a:t>
            </a:r>
            <a:endParaRPr b="1" lang="en-US" sz="5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86CF-2FAC-4876-9AE6-B78CD23BA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005e00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Century Gothic"/>
              </a:rPr>
              <a:t>Den Země</a:t>
            </a:r>
            <a:endParaRPr b="1" lang="en-US" sz="66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Comic Sans MS"/>
              </a:rPr>
              <a:t>Po stopách ohrožených zvíř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82076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ff00"/>
                </a:solidFill>
                <a:latin typeface="Century Gothic"/>
              </a:rPr>
              <a:t>Výsky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66"/>
                </a:solidFill>
                <a:latin typeface="Comic Sans MS"/>
              </a:rPr>
              <a:t>V povodí řek Amur a Ussuri na Dálném východě v Rusku a severní Čí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66"/>
                </a:solidFill>
                <a:latin typeface="Comic Sans MS"/>
              </a:rPr>
              <a:t>Domovem jsou převážně tropické le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66"/>
                </a:solidFill>
                <a:latin typeface="Comic Sans MS"/>
              </a:rPr>
              <a:t>Dříve až k Bajkalskému jezeru</a:t>
            </a:r>
            <a:r>
              <a:rPr b="0" lang="cs-CZ" sz="2800" spc="-1" strike="noStrike">
                <a:solidFill>
                  <a:srgbClr val="66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68360" y="3827520"/>
            <a:ext cx="4608720" cy="274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entury Gothic"/>
              </a:rPr>
              <a:t>Ochrana</a:t>
            </a:r>
            <a:endParaRPr b="1" lang="en-US" sz="4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entury Gothic"/>
              </a:rPr>
              <a:t>Ochrana druh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Tento druh tygra je ohrožen především tím, že je ničeno jeho původní životní prostřed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V současné době je počet odhadován asi na 300 žijících exemplář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Nyní žije podstatně více tygrů v zajetí než v přírod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Century Gothic"/>
              </a:rPr>
              <a:t>Příbuzné poddru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66"/>
                </a:solidFill>
                <a:latin typeface="Comic Sans MS"/>
              </a:rPr>
              <a:t>Rozlišujeme 8 poddruhů tygra a všechny jsou ohroženy vyhubení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66"/>
                </a:solidFill>
                <a:latin typeface="Comic Sans MS"/>
              </a:rPr>
              <a:t>Tygr baliský a tygr jávský patří mezi zcela vymřelé poddru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19640" y="4648320"/>
            <a:ext cx="3311640" cy="220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8153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Century Gothic"/>
              </a:rPr>
              <a:t>Děkujeme za pozornost</a:t>
            </a:r>
            <a:endParaRPr b="1" lang="en-US" sz="4800" spc="-1" strike="noStrike">
              <a:solidFill>
                <a:srgbClr val="ff9900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entury Gothic"/>
              </a:rPr>
              <a:t>Tygr ussurijský</a:t>
            </a:r>
            <a:endParaRPr b="1" lang="en-US" sz="4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entury Gothic"/>
              </a:rPr>
              <a:t>Následu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Základní úda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Biotop a potra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Rozmnožov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Typické zna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Zajímav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Geograf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Och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9400" y="1905120"/>
            <a:ext cx="392580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b7"/>
                </a:solidFill>
                <a:uFillTx/>
                <a:latin typeface="Comic Sans MS"/>
              </a:rPr>
              <a:t>David Novot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Comic Sans MS"/>
              </a:rPr>
              <a:t>Tereza Madej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Comic Sans MS"/>
              </a:rPr>
              <a:t>Kateřina Taranz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Comic Sans MS"/>
              </a:rPr>
              <a:t>Břetislav Šk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0" y="3933720"/>
            <a:ext cx="3809880" cy="25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entury Gothic"/>
              </a:rPr>
              <a:t>Základní údaje</a:t>
            </a:r>
            <a:endParaRPr b="1" lang="en-US" sz="4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entury Gothic"/>
              </a:rPr>
              <a:t>Tělesné rozmě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Délka: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samci 2,7-3,8 m,samice jsou menš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Výška v kohoutku: 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105-110 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Hmotnost: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250-280 k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entury Gothic"/>
              </a:rPr>
              <a:t>Ž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Chování: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noční aktivita, samci žijí samotářs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Délka života:</a:t>
            </a: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asi 15 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0560" y="393228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entury Gothic"/>
              </a:rPr>
              <a:t>Základní údaje</a:t>
            </a:r>
            <a:endParaRPr b="1" lang="en-US" sz="4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6193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ff66"/>
                </a:solidFill>
                <a:latin typeface="Comic Sans MS"/>
              </a:rPr>
              <a:t>Kmen: </a:t>
            </a:r>
            <a:r>
              <a:rPr b="0" lang="cs-CZ" sz="2800" spc="-1" strike="noStrike">
                <a:solidFill>
                  <a:srgbClr val="66ff66"/>
                </a:solidFill>
                <a:latin typeface="Comic Sans MS"/>
              </a:rPr>
              <a:t>strunatci </a:t>
            </a:r>
            <a:r>
              <a:rPr b="0" i="1" lang="cs-CZ" sz="2300" spc="-1" strike="noStrike">
                <a:solidFill>
                  <a:srgbClr val="ffff66"/>
                </a:solidFill>
                <a:latin typeface="Comic Sans MS"/>
              </a:rPr>
              <a:t>(chordata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ff66"/>
                </a:solidFill>
                <a:latin typeface="Comic Sans MS"/>
              </a:rPr>
              <a:t>Podkmen: </a:t>
            </a:r>
            <a:r>
              <a:rPr b="0" lang="cs-CZ" sz="2800" spc="-1" strike="noStrike">
                <a:solidFill>
                  <a:srgbClr val="66ff66"/>
                </a:solidFill>
                <a:latin typeface="Comic Sans MS"/>
              </a:rPr>
              <a:t>obratlovci </a:t>
            </a:r>
            <a:r>
              <a:rPr b="0" i="1" lang="cs-CZ" sz="2300" spc="-1" strike="noStrike">
                <a:solidFill>
                  <a:srgbClr val="ffff66"/>
                </a:solidFill>
                <a:latin typeface="Comic Sans MS"/>
              </a:rPr>
              <a:t>(vertebrata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ff66"/>
                </a:solidFill>
                <a:latin typeface="Comic Sans MS"/>
              </a:rPr>
              <a:t>Třída:</a:t>
            </a:r>
            <a:r>
              <a:rPr b="0" lang="cs-CZ" sz="2800" spc="-1" strike="noStrike">
                <a:solidFill>
                  <a:srgbClr val="66ff66"/>
                </a:solidFill>
                <a:latin typeface="Comic Sans MS"/>
              </a:rPr>
              <a:t> savci </a:t>
            </a:r>
            <a:r>
              <a:rPr b="0" i="1" lang="cs-CZ" sz="2300" spc="-1" strike="noStrike">
                <a:solidFill>
                  <a:srgbClr val="ffff66"/>
                </a:solidFill>
                <a:latin typeface="Comic Sans MS"/>
              </a:rPr>
              <a:t>(mammalia)</a:t>
            </a:r>
            <a:r>
              <a:rPr b="0" lang="cs-CZ" sz="28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ff66"/>
                </a:solidFill>
                <a:latin typeface="Comic Sans MS"/>
              </a:rPr>
              <a:t>Řád</a:t>
            </a:r>
            <a:r>
              <a:rPr b="0" lang="cs-CZ" sz="2800" spc="-1" strike="noStrike">
                <a:solidFill>
                  <a:srgbClr val="66ff66"/>
                </a:solidFill>
                <a:latin typeface="Comic Sans MS"/>
              </a:rPr>
              <a:t>: šelmy </a:t>
            </a:r>
            <a:r>
              <a:rPr b="0" i="1" lang="cs-CZ" sz="2300" spc="-1" strike="noStrike">
                <a:solidFill>
                  <a:srgbClr val="ffff66"/>
                </a:solidFill>
                <a:latin typeface="Comic Sans MS"/>
              </a:rPr>
              <a:t>(carnivora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ff66"/>
                </a:solidFill>
                <a:latin typeface="Comic Sans MS"/>
              </a:rPr>
              <a:t>Čeleď</a:t>
            </a:r>
            <a:r>
              <a:rPr b="0" lang="cs-CZ" sz="2800" spc="-1" strike="noStrike">
                <a:solidFill>
                  <a:srgbClr val="66ff66"/>
                </a:solidFill>
                <a:latin typeface="Comic Sans MS"/>
              </a:rPr>
              <a:t>: kočkovití </a:t>
            </a:r>
            <a:r>
              <a:rPr b="0" i="1" lang="cs-CZ" sz="2300" spc="-1" strike="noStrike">
                <a:solidFill>
                  <a:srgbClr val="ffff66"/>
                </a:solidFill>
                <a:latin typeface="Comic Sans MS"/>
              </a:rPr>
              <a:t>(felida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66ff66"/>
                </a:solidFill>
                <a:latin typeface="Comic Sans MS"/>
              </a:rPr>
              <a:t>(latinský název): </a:t>
            </a:r>
            <a:r>
              <a:rPr b="0" lang="cs-CZ" sz="2300" spc="-1" strike="noStrike">
                <a:solidFill>
                  <a:srgbClr val="66ff66"/>
                </a:solidFill>
                <a:latin typeface="Comic Sans MS"/>
              </a:rPr>
              <a:t>Pantera tigris altaica</a:t>
            </a:r>
            <a:r>
              <a:rPr b="0" i="1" lang="cs-CZ" sz="23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66ff66"/>
                </a:solidFill>
                <a:latin typeface="Comic Sans MS"/>
              </a:rPr>
              <a:t>(anglický název):</a:t>
            </a:r>
            <a:r>
              <a:rPr b="0" lang="cs-CZ" sz="2300" spc="-1" strike="noStrike">
                <a:solidFill>
                  <a:srgbClr val="66ff66"/>
                </a:solidFill>
                <a:latin typeface="Comic Sans MS"/>
              </a:rPr>
              <a:t>Amar tiger</a:t>
            </a:r>
            <a:r>
              <a:rPr b="0" i="1" lang="cs-CZ" sz="23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66ff66"/>
                </a:solidFill>
                <a:latin typeface="Comic Sans MS"/>
              </a:rPr>
              <a:t>(německý název):</a:t>
            </a:r>
            <a:r>
              <a:rPr b="0" lang="cs-CZ" sz="2300" spc="-1" strike="noStrike">
                <a:solidFill>
                  <a:srgbClr val="66ff66"/>
                </a:solidFill>
                <a:latin typeface="Comic Sans MS"/>
              </a:rPr>
              <a:t>Sibirische tige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21583200">
            <a:off x="6659640" y="2565360"/>
            <a:ext cx="2313000" cy="33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entury Gothic"/>
              </a:rPr>
              <a:t>Biotop a potrava</a:t>
            </a:r>
            <a:endParaRPr b="1" lang="en-US" sz="4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entury Gothic"/>
              </a:rPr>
              <a:t>Bio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Tajga-hustěji porostlé oblasti listnatých, smíšených i jehličnatých les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entury Gothic"/>
              </a:rPr>
              <a:t>Potr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Jsou masožraví, loví divoká prasata, srnky, jeleny, někdy medvědy i menší živočichy.Větší kořist si tygr ukrýv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Loví na vzdálenost 20m.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84720" y="476280"/>
            <a:ext cx="177192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00000" y="4649760"/>
            <a:ext cx="3384720" cy="220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entury Gothic"/>
              </a:rPr>
              <a:t>Rozmnožování</a:t>
            </a:r>
            <a:endParaRPr b="1" lang="en-US" sz="4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89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entury Gothic"/>
              </a:rPr>
              <a:t>Rozmnožování</a:t>
            </a:r>
            <a:r>
              <a:rPr b="0" lang="en-US" sz="3200" spc="-1" strike="noStrike">
                <a:solidFill>
                  <a:srgbClr val="00ff00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Comic Sans MS"/>
              </a:rPr>
              <a:t>Samice dospívají ve věku 3-4 le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Comic Sans MS"/>
              </a:rPr>
              <a:t>K páření dochází během zimy a jar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Comic Sans MS"/>
              </a:rPr>
              <a:t>Délka březosti je 90-122 dnů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Comic Sans MS"/>
              </a:rPr>
              <a:t>Samice rodí 1-6 mláď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Comic Sans MS"/>
              </a:rPr>
              <a:t>Mláďata s matkou zůstávají 1-3 roky a učí se lov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92720" y="2708280"/>
            <a:ext cx="3535200" cy="235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entury Gothic"/>
              </a:rPr>
              <a:t>Typické znaky</a:t>
            </a:r>
            <a:endParaRPr b="1" lang="en-US" sz="4400" spc="-1" strike="noStrike">
              <a:solidFill>
                <a:srgbClr val="ff9900"/>
              </a:solidFill>
              <a:latin typeface="Century Gothic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1378080"/>
            <a:ext cx="7777440" cy="517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entury Gothic"/>
              </a:rPr>
              <a:t>Zajímavosti</a:t>
            </a:r>
            <a:endParaRPr b="1" lang="en-US" sz="4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537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omic Sans MS"/>
              </a:rPr>
              <a:t>Je největší kočkovitá šel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omic Sans MS"/>
              </a:rPr>
              <a:t>Vlastní trus a moč jim slouží jako ochrana a zastrašování nepříte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omic Sans MS"/>
              </a:rPr>
              <a:t>Hladový tygr sežere najednou až 40 kg ma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382920" cy="41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entury Gothic"/>
              </a:rPr>
              <a:t>Geografie</a:t>
            </a:r>
            <a:endParaRPr b="1" lang="en-US" sz="4400" spc="-1" strike="noStrike">
              <a:solidFill>
                <a:srgbClr val="ff99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Century Gothic"/>
              </a:rPr>
              <a:t>Podnebný pás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66"/>
                </a:solidFill>
                <a:latin typeface="Comic Sans MS"/>
              </a:rPr>
              <a:t>Mírný – leží mezi subtropickým a subarktickým podnebí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66"/>
                </a:solidFill>
                <a:latin typeface="Comic Sans MS"/>
              </a:rPr>
              <a:t>Teploty se zde pohybují mezi 40°C až -50°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66"/>
                </a:solidFill>
                <a:latin typeface="Comic Sans MS"/>
              </a:rPr>
              <a:t>Žijí zde medvědi, zubři, vlci, lišky či medvědi hněd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ff66"/>
                </a:solidFill>
                <a:latin typeface="Comic Sans MS"/>
              </a:rPr>
              <a:t>Typickou dřevinou je smrk, modřín, bříza, lípa, buk a dub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219640" y="2400480"/>
            <a:ext cx="3241800" cy="311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6:37:03Z</dcterms:created>
  <dc:creator>Ucebna Informatiky</dc:creator>
  <dc:description/>
  <dc:language>en-US</dc:language>
  <cp:lastModifiedBy>Jirka</cp:lastModifiedBy>
  <dcterms:modified xsi:type="dcterms:W3CDTF">2007-06-01T16:36:12Z</dcterms:modified>
  <cp:revision>22</cp:revision>
  <dc:subject/>
  <dc:title>Den Země</dc:title>
</cp:coreProperties>
</file>