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8A8-F6AC-4D7E-8A63-740C8C3F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B5F-4AD6-4755-BEA2-1B052F5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899-05A9-4A87-9770-AF5BAEAB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856-5AE3-4FA6-AEB4-4F5A0931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E129-3A1A-44F3-A879-14FEE163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147-C72A-442E-85C0-E11BAA5E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336-7485-4626-84D0-DFC4B21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B993-9A30-47FA-81F0-DC079C4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9BFD-2E9F-4B3C-9E90-AE1250E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F3E3-D135-4162-A694-8F67D36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1044-DABB-4F1B-B1EC-8A97214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B6C-C5C0-4F45-9EA0-87F26332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EEC-E862-4F4A-8C48-EE47091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5EE-C9FB-412C-8D90-8A8444AE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1888-7FFD-45F0-9E03-A44245D6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C7AA-8DBE-4F2A-9A22-0F3CFA11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3AFD-C698-4C5C-9F06-F9865581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DE1-9A26-4C28-A4C1-B3A7840B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23C-E505-473D-8DB6-F699FCCF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8D7-9F88-4E28-A607-4BA018D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251-5A00-47DA-B5FC-0C109DD1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DEF-37F1-48D9-8302-1517046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A13-8046-4FE3-8F24-DFC5982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2F5-8FD6-45DE-833E-742AF5D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572A-3E60-417F-8A09-B4219E17D13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04F-7654-41DD-9EC2-D0AF493B6F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Comic Sans MS"/>
              </a:rPr>
              <a:t>Den Země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Po stopách ohrožených zvíř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Geografie</a:t>
            </a: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85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Podnebný pás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ární v zimě teploty až -50°C, v létě okolo 0°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arktický pá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87692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Turistické zajímavos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město Grónska je NUUK . Pobřeží je obklopeno četnými ostrovy (Qeqertarssvaq aj.) Grónsko je spojeno s okolním světem jenom vysílačkou. Grónsko je nejlepší lovecká oblast ( NUUK ) je bohatá na lov tuleňů, ledních medvědů, pižmoňů, mrožů, ……..a narvaly. Mezi největší turistické zajímavosti patří každoročně Grónské ledové město, které vytesává několik tesařů do ledových ke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788000" y="4869000"/>
            <a:ext cx="333216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Zoogeografické zařazení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rní Atlantik až Severní ledový oceán. Pobřežní pásma včetně plochých mořských břehů i útesů, pásma nad přílivovou zónou, mezi linií nejvyššího přílivu a odlivu a v mělkých vodách. Moře a oceány. Polární regiony včetně tundry a ledovc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80836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Poděkování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Comic Sans MS"/>
              </a:rPr>
              <a:t>Na závěr bychom chtěli poděkovat</a:t>
            </a:r>
            <a:r>
              <a:rPr b="1" lang="cs-CZ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aní učitelce Hojkové -za  pomoc při přírodopisné část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anu učitelovi Mandysovi -za pomoc při grafické stránce projektu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A hlavně rodičům za přístup na počítač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1130040" cy="1257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0476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TULEŇ GRÓNSKÝ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Comic Sans MS"/>
              </a:rPr>
              <a:t>OBSA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ázvy v cizích jazycí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Zařaze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to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tr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množ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elikost, délka života a zajímavost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ograf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peň ohrožení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116680" y="1600200"/>
            <a:ext cx="310176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3933720"/>
            <a:ext cx="309564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Názvy v cizích jazycích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(latinský název) Pagophilus groenlandic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(anglický název) Seal gron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(německý název) Seehung grönländis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Zařazení</a:t>
            </a: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Kmen: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unatci (chordat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Podkmen: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bratlovci (wertebrat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Třída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avci  (mammali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Řád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Šelmy (carnivor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Čeleď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uleňovití (phocida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6180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Biotop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lasti Grónska, severní Atlantik až Severní ledový oceá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břežní pásma včetně plochých mořských břehů i útesů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ární regiony včetně tundry a ledovců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2354400"/>
            <a:ext cx="4038480" cy="30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Potrava</a:t>
            </a: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ravu jim poskytuje výhradně moř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ví ryby plující při hladině a hlavonožce, korýši, příležitostně platýze, tresky které se pohybují hlouběji ve vodě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rava se liší, záleží na období, věku at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3097080" cy="2158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60960" y="1600200"/>
            <a:ext cx="30132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Rozmnožování 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dobí rozmnožování je na jaře -&gt; stěhují se na souš a mají pohlavní rozmnožování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76360" y="3716280"/>
            <a:ext cx="62643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Comic Sans MS"/>
              </a:rPr>
              <a:t>Velikost, délka života a zajímavost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leň grónský má vřetenovitý tvar těl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lka těla 1,6 m. Má 32 obratlů, ocas má 15 cm a 13 obratlů. 1,2-2m ( 150-200 kg 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leň grónský se dožívá 30--40 le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uleni nemají ušní bolt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2495520"/>
            <a:ext cx="40384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Comic Sans MS"/>
              </a:rPr>
              <a:t>Stupeň ohrožení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388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51600" y="1600200"/>
            <a:ext cx="3031920" cy="4530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1997640"/>
            <a:ext cx="439236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ymřelý v přírodě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iticky ohrožen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hrožen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raniteln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ižší riziko ohrožení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ecff"/>
                </a:solidFill>
                <a:uFillTx/>
                <a:latin typeface="Verdana"/>
              </a:rPr>
              <a:t>Běžný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4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éně zraniteln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9:18:24Z</dcterms:created>
  <dc:creator>Učebna Informatiky</dc:creator>
  <dc:description/>
  <dc:language>en-US</dc:language>
  <cp:lastModifiedBy>Jirka</cp:lastModifiedBy>
  <dcterms:modified xsi:type="dcterms:W3CDTF">2007-06-01T16:55:51Z</dcterms:modified>
  <cp:revision>12</cp:revision>
  <dc:subject/>
  <dc:title>Den Země</dc:title>
</cp:coreProperties>
</file>