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3EB-6ADB-47AE-8DAF-DDE20024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1D4E-F479-4627-BF56-E38FEADA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601-B1CD-46DC-901A-77DB0F55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871D-3BDB-4B73-9E28-EECE12D7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D3C8-5618-46F3-8155-86A0291C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C1B0-4716-4ED9-9CC0-8A8EF771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4161-0EB1-4AF7-9158-1D33EC82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C5D9-38D9-42FA-9C91-BCAED645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AF2F-E535-438D-9087-B1DA88D5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7E39-CB2B-4889-88AC-0AC2B0FD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060C-523F-4706-90E0-511429BE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376-D4FB-4709-B755-37E5857F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97D8-AE80-4BCE-8BE5-79A8914B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198E-6AE7-4B2C-8500-1C89F625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4D65-BFAE-4B6E-BEDA-6E6FFBAE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901F-F94B-4C14-94D3-66834460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AFB9-0759-4453-94D5-A80C906D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68C7-3F20-43F8-B44F-92677B41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A43-9DC2-4329-B886-C5F622B2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201-2B53-4CCD-882D-80FAFF73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F19-B7A0-4473-8F91-0EC2BD40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E8A-34B1-4DC1-B0C8-3935E0B0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026-0EFB-49E3-8693-FBDDC0AB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52D-13F4-4892-B9A3-4C79C85D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3E11-E2E3-4AE8-9CD9-289A39BFC5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B17F-17AB-4F6E-8BF5-BA3AF1A00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ccff33"/>
                </a:solidFill>
                <a:uFillTx/>
                <a:latin typeface="Times New Roman"/>
              </a:rPr>
              <a:t>Den Země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o stopách ohrožených zvíř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cc33"/>
                </a:solidFill>
                <a:uFillTx/>
                <a:latin typeface="Times New Roman"/>
              </a:rPr>
              <a:t>Panda velká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99ff33"/>
                </a:solidFill>
                <a:latin typeface="Times New Roman"/>
              </a:rPr>
              <a:t>Taxonomické zařazení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00"/>
                </a:solidFill>
                <a:latin typeface="Times New Roman"/>
              </a:rPr>
              <a:t>(latinský název):</a:t>
            </a:r>
            <a:r>
              <a:rPr b="0" lang="cs-CZ" sz="1600" spc="-1" strike="noStrike" u="sng">
                <a:solidFill>
                  <a:srgbClr val="ffff00"/>
                </a:solidFill>
                <a:uFillTx/>
                <a:latin typeface="Times New Roman"/>
              </a:rPr>
              <a:t>Ailuropoda melanoleu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00"/>
                </a:solidFill>
                <a:latin typeface="Times New Roman"/>
              </a:rPr>
              <a:t>(anglický název):</a:t>
            </a:r>
            <a:r>
              <a:rPr b="0" lang="cs-CZ" sz="1600" spc="-1" strike="noStrike" u="sng">
                <a:solidFill>
                  <a:srgbClr val="ffff00"/>
                </a:solidFill>
                <a:uFillTx/>
                <a:latin typeface="Times New Roman"/>
              </a:rPr>
              <a:t>Greather pan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00"/>
                </a:solidFill>
                <a:latin typeface="Times New Roman"/>
              </a:rPr>
              <a:t>(německý název):</a:t>
            </a:r>
            <a:r>
              <a:rPr b="0" lang="cs-CZ" sz="1600" spc="-1" strike="noStrike" u="sng">
                <a:solidFill>
                  <a:srgbClr val="ffff00"/>
                </a:solidFill>
                <a:uFillTx/>
                <a:latin typeface="Times New Roman"/>
              </a:rPr>
              <a:t>der Panda grobeta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99ff33"/>
                </a:solidFill>
                <a:latin typeface="Times New Roman"/>
              </a:rPr>
              <a:t>Kmen:</a:t>
            </a:r>
            <a:r>
              <a:rPr b="1" i="1" lang="cs-CZ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ff00"/>
                </a:solidFill>
                <a:latin typeface="Times New Roman"/>
              </a:rPr>
              <a:t>strunatci </a:t>
            </a:r>
            <a:r>
              <a:rPr b="0" i="1" lang="cs-CZ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200" spc="-1" strike="noStrike" u="sng">
                <a:solidFill>
                  <a:srgbClr val="ffff00"/>
                </a:solidFill>
                <a:uFillTx/>
                <a:latin typeface="Times New Roman"/>
              </a:rPr>
              <a:t>(chardata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99ff33"/>
                </a:solidFill>
                <a:latin typeface="Times New Roman"/>
              </a:rPr>
              <a:t>Podkmen:</a:t>
            </a:r>
            <a:r>
              <a:rPr b="1" i="1" lang="cs-CZ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ff00"/>
                </a:solidFill>
                <a:latin typeface="Times New Roman"/>
              </a:rPr>
              <a:t>obratlovci </a:t>
            </a:r>
            <a:r>
              <a:rPr b="0" i="1" lang="cs-CZ" sz="2200" spc="-1" strike="noStrike" u="sng">
                <a:solidFill>
                  <a:srgbClr val="ffff00"/>
                </a:solidFill>
                <a:uFillTx/>
                <a:latin typeface="Times New Roman"/>
              </a:rPr>
              <a:t>(vertebrata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99ff33"/>
                </a:solidFill>
                <a:latin typeface="Times New Roman"/>
              </a:rPr>
              <a:t>Třída:</a:t>
            </a:r>
            <a:r>
              <a:rPr b="1" i="1" lang="cs-CZ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ff00"/>
                </a:solidFill>
                <a:latin typeface="Times New Roman"/>
              </a:rPr>
              <a:t>savci</a:t>
            </a:r>
            <a:r>
              <a:rPr b="0" i="1" lang="cs-CZ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200" spc="-1" strike="noStrike" u="sng">
                <a:solidFill>
                  <a:srgbClr val="ffff00"/>
                </a:solidFill>
                <a:uFillTx/>
                <a:latin typeface="Times New Roman"/>
              </a:rPr>
              <a:t>(mammalia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99ff33"/>
                </a:solidFill>
                <a:latin typeface="Times New Roman"/>
              </a:rPr>
              <a:t>Řád:</a:t>
            </a:r>
            <a:r>
              <a:rPr b="1" i="1" lang="cs-CZ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ff00"/>
                </a:solidFill>
                <a:latin typeface="Times New Roman"/>
              </a:rPr>
              <a:t>šelmy</a:t>
            </a:r>
            <a:r>
              <a:rPr b="0" i="1" lang="cs-CZ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200" spc="-1" strike="noStrike" u="sng">
                <a:solidFill>
                  <a:srgbClr val="ffff00"/>
                </a:solidFill>
                <a:uFillTx/>
                <a:latin typeface="Times New Roman"/>
              </a:rPr>
              <a:t>(carnivora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99ff33"/>
                </a:solidFill>
                <a:latin typeface="Times New Roman"/>
              </a:rPr>
              <a:t>Čeleď:</a:t>
            </a:r>
            <a:r>
              <a:rPr b="1" i="1" lang="cs-CZ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cs-CZ" sz="2200" spc="-1" strike="noStrike">
                <a:solidFill>
                  <a:srgbClr val="ffff00"/>
                </a:solidFill>
                <a:latin typeface="Times New Roman"/>
              </a:rPr>
              <a:t>medvědovití </a:t>
            </a:r>
            <a:r>
              <a:rPr b="0" i="1" lang="cs-CZ" sz="2200" spc="-1" strike="noStrike" u="sng">
                <a:solidFill>
                  <a:srgbClr val="ffff00"/>
                </a:solidFill>
                <a:uFillTx/>
                <a:latin typeface="Times New Roman"/>
              </a:rPr>
              <a:t>(ursida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05480" y="2205000"/>
            <a:ext cx="281160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33"/>
                </a:solidFill>
                <a:uFillTx/>
                <a:latin typeface="Times New Roman"/>
              </a:rPr>
              <a:t>Panda velká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99ff33"/>
                </a:solidFill>
                <a:latin typeface="Times New Roman"/>
              </a:rPr>
              <a:t>Biotop: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Bambusové houští v hornatých oblastech střední a jihovýchodní Asi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99ff33"/>
                </a:solidFill>
                <a:latin typeface="Times New Roman"/>
              </a:rPr>
              <a:t>Potrava: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Jí nejméně 15hodin denně, za tu dobu spořádá až 20kg bambusu, larvy hmyzu, ptačí vejce i vzdechli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99ff33"/>
                </a:solidFill>
                <a:latin typeface="Times New Roman"/>
              </a:rPr>
              <a:t>Rozmnožování:</a:t>
            </a:r>
            <a:r>
              <a:rPr b="1" i="1" lang="cs-CZ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Pět měsíců v březosti od března do května je to období kdy se samotářské pandy setkávaj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99ff33"/>
                </a:solidFill>
                <a:latin typeface="Times New Roman"/>
              </a:rPr>
              <a:t>Velikost:</a:t>
            </a:r>
            <a:r>
              <a:rPr b="1" i="1" lang="cs-CZ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Tělo 1,2-1,5m hmotnost 75-160kg po narození: 90-130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99ff33"/>
                </a:solidFill>
                <a:latin typeface="Times New Roman"/>
              </a:rPr>
              <a:t>Délka života:</a:t>
            </a:r>
            <a:r>
              <a:rPr b="1" i="1" lang="cs-CZ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V zajetí 30let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34340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Panda velká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419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66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99ff33"/>
                </a:solidFill>
                <a:latin typeface="Times New Roman"/>
              </a:rPr>
              <a:t>ZAJÍMAVOST: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panda se denně věnuje 16 i více hodin přijímání potravy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66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Má nejsilnější stoličky ze všech šelem na světě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66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Na světě jich je asi 1000k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ff33"/>
                </a:solidFill>
                <a:latin typeface="Times New Roman"/>
              </a:rPr>
              <a:t>STUPEŇ OHROŽE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66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Bude brzy odkázaná na život v zajetí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9966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Brzy vyhynou kvůli ztrátě životního prostředí ale také masivnímu úhynu základního zdroje jejich potravy (bambus)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63708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Panda velká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656240" cy="4343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1" i="1" lang="cs-CZ" sz="26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Podnebný pás</a:t>
            </a:r>
            <a:r>
              <a:rPr b="1" i="1" lang="cs-CZ" sz="30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: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írný a subtropický podnebný pá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1" i="1" lang="cs-CZ" sz="26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Zoogeografické zařazení: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learktická a orientál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1" i="1" lang="cs-CZ" sz="26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Mapa oblasti: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Žije v Číně, především v horách Qvionglai, Daxiangling, Xiaoxiongling a Lian v provincii S-Čhvan a hory Min v pohoří Qincing v provincii Šan-s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ccff33"/>
                </a:solidFill>
                <a:latin typeface="Times New Roman"/>
                <a:ea typeface="Times New Roman"/>
              </a:rPr>
              <a:t>Parky: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Žlutý drak, 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W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lingyuan,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k Sedmi hvěz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Panda velká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ff33"/>
                </a:solidFill>
                <a:latin typeface="Times New Roman"/>
              </a:rPr>
              <a:t>Turistická zajímavost: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Když se vydáte do Číny tak se určitě projděte po velké čínské zdi. Pokud vám vyhládne stavte se v jedné z místních restaurací.určitě to stojí za to protože můžete pokrm jíst čínskými hůlkami. Čína je velkým vývozcem všeho na co si jen vzpomenete. Od oblečení počínaje hračkam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828800"/>
            <a:ext cx="4572000" cy="3462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8:34:23Z</dcterms:created>
  <dc:creator>Učebna Informatiky</dc:creator>
  <dc:description/>
  <dc:language>en-US</dc:language>
  <cp:lastModifiedBy>Jirka</cp:lastModifiedBy>
  <dcterms:modified xsi:type="dcterms:W3CDTF">2007-06-01T16:52:37Z</dcterms:modified>
  <cp:revision>10</cp:revision>
  <dc:subject/>
  <dc:title>Den Země</dc:title>
</cp:coreProperties>
</file>