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C49-36F7-4C0A-A623-F64CD35B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210-146C-48B4-BD31-0DB32C77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242-0C3E-4185-A0C7-50A223E3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7FF-DF87-4B07-A69B-20C73187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E27-5894-4102-B69D-48D5936F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748-6669-46D9-B1A8-5176E1D2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DE0-F271-40AB-99E1-6766551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606-B45D-44B9-9B38-479D6863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4FC-A868-4334-A3F7-F90B70B3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D18-17F2-45C4-8337-B534BA2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0FF-6430-4466-A2DF-8B2BAEC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DBD-E892-423B-AB64-09B08A3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F8B9-58DE-4BE3-A479-DB68A6DC4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1523880"/>
            <a:ext cx="6172200" cy="1447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600" spc="-1" strike="noStrike" u="sng">
                <a:solidFill>
                  <a:srgbClr val="000000"/>
                </a:solidFill>
                <a:uFillTx/>
                <a:latin typeface="Monotype Corsiva"/>
              </a:rPr>
              <a:t>Den země</a:t>
            </a:r>
            <a:r>
              <a:rPr b="1" i="1" lang="cs-CZ" sz="96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fff00"/>
                </a:solidFill>
                <a:uFillTx/>
                <a:latin typeface="Lucida Console"/>
              </a:rPr>
              <a:t>Po stopách ohrožených zvíř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 u="sng">
                <a:solidFill>
                  <a:srgbClr val="000000"/>
                </a:solidFill>
                <a:uFillTx/>
                <a:latin typeface="ITCAvantGardeGothicCE"/>
                <a:ea typeface="Times New Roman"/>
              </a:rPr>
              <a:t>Zoogeografické zařazení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cs-CZ" sz="48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1" lang="cs-CZ" sz="4800" spc="-1" strike="noStrike" u="sng">
                <a:solidFill>
                  <a:srgbClr val="000000"/>
                </a:solidFill>
                <a:uFillTx/>
                <a:latin typeface="ITCAvantGardeGothicCE"/>
                <a:ea typeface="Times New Roman"/>
              </a:rPr>
              <a:t>Turistické zajímavosti</a:t>
            </a:r>
            <a:r>
              <a:rPr b="1" lang="cs-CZ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3581640" cy="182880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ITCAvantGardeGothicCE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ITCAvantGardeGothicCE-Bold"/>
                <a:ea typeface="Times New Roman"/>
              </a:rPr>
              <a:t>Medvěd lední je zařazen do artického pásu</a:t>
            </a:r>
            <a:r>
              <a:rPr b="1" lang="cs-CZ" sz="3200" spc="-1" strike="noStrike">
                <a:solidFill>
                  <a:srgbClr val="ffff00"/>
                </a:solidFill>
                <a:latin typeface="ITCAvantGardeGothicCE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3280" y="2362320"/>
            <a:ext cx="3662640" cy="409104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Palatino Linotype"/>
              </a:rPr>
              <a:t>Oblast severního pólu může být do roku 2040 zcela bez ledu pokud bude lidstvo vypouštět do atmosféy množství skleníkových plynů jako dos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Mapa oblasti</a:t>
            </a: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686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3300"/>
                </a:solidFill>
                <a:latin typeface="Times New Roman"/>
              </a:rPr>
              <a:t>Na tomto projektu  </a:t>
            </a:r>
            <a:r>
              <a:rPr b="1" lang="cs-CZ" sz="4800" spc="-1" strike="noStrike" u="sng">
                <a:solidFill>
                  <a:srgbClr val="ff3300"/>
                </a:solidFill>
                <a:uFillTx/>
                <a:latin typeface="Times New Roman"/>
              </a:rPr>
              <a:t>spolupracovali</a:t>
            </a:r>
            <a:r>
              <a:rPr b="1" lang="cs-CZ" sz="4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Lucida Console"/>
              </a:rPr>
              <a:t>Petr Zvolensk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Lucida Console"/>
              </a:rPr>
              <a:t>Jan Bedná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Lucida Console"/>
              </a:rPr>
              <a:t>Michal Bojč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Lucida Console"/>
              </a:rPr>
              <a:t>Lukáš Val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92384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57800" y="4114800"/>
            <a:ext cx="1401840" cy="2498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Teď už víte pravdu !!!! 2"/>
          <p:cNvPicPr/>
          <p:nvPr/>
        </p:nvPicPr>
        <p:blipFill>
          <a:blip r:embed="rId4"/>
          <a:stretch/>
        </p:blipFill>
        <p:spPr>
          <a:xfrm>
            <a:off x="7315200" y="2971800"/>
            <a:ext cx="1536840" cy="2878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666880" y="4191120"/>
            <a:ext cx="1473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dní medvě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0101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</a:rPr>
              <a:t>Tax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</a:rPr>
              <a:t>Potr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</a:rPr>
              <a:t>Rozmnož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</a:rPr>
              <a:t>Velik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</a:rPr>
              <a:t>Délka živ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Zajímavosti</a:t>
            </a:r>
            <a:r>
              <a:rPr b="0" lang="cs-CZ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Biotop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Podnebný p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Zoogeografické zařazení</a:t>
            </a:r>
            <a:r>
              <a:rPr b="0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</a:rPr>
              <a:t>Turistická zajímav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Georgia"/>
              </a:rPr>
              <a:t>Mapa obla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5049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Taxonomie a stupeň ohrožení</a:t>
            </a: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4487760" cy="304812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men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cs-CZ" sz="3200" spc="-1" strike="noStrike">
                <a:solidFill>
                  <a:srgbClr val="00ff00"/>
                </a:solidFill>
                <a:latin typeface="Century Gothic"/>
              </a:rPr>
              <a:t>strunatci</a:t>
            </a:r>
            <a:r>
              <a:rPr b="1" lang="cs-CZ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odkmen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cs-CZ" sz="3200" spc="-1" strike="noStrike">
                <a:solidFill>
                  <a:srgbClr val="00ff00"/>
                </a:solidFill>
                <a:latin typeface="Century Gothic"/>
              </a:rPr>
              <a:t>obratlovci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řída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cs-CZ" sz="3200" spc="-1" strike="noStrike">
                <a:solidFill>
                  <a:srgbClr val="00ff00"/>
                </a:solidFill>
                <a:latin typeface="Century Gothic"/>
              </a:rPr>
              <a:t>savci</a:t>
            </a:r>
            <a:r>
              <a:rPr b="1" lang="cs-CZ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Řád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cs-CZ" sz="3200" spc="-1" strike="noStrike">
                <a:solidFill>
                  <a:srgbClr val="00ff00"/>
                </a:solidFill>
                <a:latin typeface="Century Gothic"/>
              </a:rPr>
              <a:t>šelmy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Čeleď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cs-CZ" sz="3200" spc="-1" strike="noStrike">
                <a:solidFill>
                  <a:srgbClr val="00ff00"/>
                </a:solidFill>
                <a:latin typeface="Century Gothic"/>
              </a:rPr>
              <a:t>medvědovití</a:t>
            </a:r>
            <a:r>
              <a:rPr b="0" lang="cs-CZ" sz="32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2000" y="2204640"/>
            <a:ext cx="3886200" cy="42670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pně ohr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mřelý v přírod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Kriticky ohrože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hrože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Sylfaen"/>
              </a:rPr>
              <a:t>Zranitel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ižší riziko ohr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Běž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ísty běž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trava</a:t>
            </a: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95320" y="2057400"/>
            <a:ext cx="4496040" cy="411480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omic Sans MS"/>
              </a:rPr>
              <a:t>Ledního medvěda potrava j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ořské ryby,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tuleni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mršiny kytovců, hlodavci, na podzim také různé bobule</a:t>
            </a:r>
            <a:r>
              <a:rPr b="1" lang="cs-CZ" sz="36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2674800"/>
            <a:ext cx="35053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Rozmnožování</a:t>
            </a: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502920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Console"/>
              </a:rPr>
              <a:t>Samice je březí 9 měsíců, ale prodělává tzv. utajenou březost – oplozené vajíčko se začne rýhovat, potom se jeho vývoj zastaví, aby pokračoval až v příhodnou dobu. Samice rodí v období zimního klidu 1-3 neobvykle malá mláďata</a:t>
            </a:r>
            <a:r>
              <a:rPr b="1" lang="cs-CZ" sz="2800" spc="-1" strike="noStrike">
                <a:solidFill>
                  <a:srgbClr val="ffff00"/>
                </a:solidFill>
                <a:latin typeface="Lucida Console"/>
              </a:rPr>
              <a:t>. </a:t>
            </a:r>
            <a:r>
              <a:rPr b="1" lang="en-US" sz="2800" spc="-1" strike="noStrike">
                <a:solidFill>
                  <a:srgbClr val="ffff00"/>
                </a:solidFill>
                <a:latin typeface="Lucida Console"/>
              </a:rPr>
              <a:t>Mláďat</a:t>
            </a:r>
            <a:r>
              <a:rPr b="1" lang="cs-CZ" sz="2800" spc="-1" strike="noStrike">
                <a:solidFill>
                  <a:srgbClr val="ffff00"/>
                </a:solidFill>
                <a:latin typeface="Lucida Console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Lucida Console"/>
              </a:rPr>
              <a:t> dospívají ve 4-8 roce</a:t>
            </a:r>
            <a:r>
              <a:rPr b="1" lang="cs-CZ" sz="2800" spc="-1" strike="noStrike">
                <a:solidFill>
                  <a:srgbClr val="ffff00"/>
                </a:solidFill>
                <a:latin typeface="Lucida Conso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28195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 u="sng">
                <a:solidFill>
                  <a:srgbClr val="000000"/>
                </a:solidFill>
                <a:uFillTx/>
                <a:latin typeface="Times New Roman"/>
              </a:rPr>
              <a:t>Velikost a délka života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33920" cy="274320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</a:rPr>
              <a:t>délka těla až 3 m, výška v kohoutku až 160 cm, hmotnost 320-720 (někdy až 1000!) kg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2880" y="3428640"/>
            <a:ext cx="3810240" cy="243828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itstream Vera Sans"/>
              </a:rPr>
              <a:t>V zoologické zahradě se dožil </a:t>
            </a:r>
            <a:r>
              <a:rPr b="1" lang="en-US" sz="3200" spc="-1" strike="noStrike">
                <a:solidFill>
                  <a:srgbClr val="00ff00"/>
                </a:solidFill>
                <a:latin typeface="Bitstream Vera Sans"/>
              </a:rPr>
              <a:t>32 let</a:t>
            </a:r>
            <a:r>
              <a:rPr b="1" lang="en-US" sz="3200" spc="-1" strike="noStrike">
                <a:solidFill>
                  <a:srgbClr val="ffff00"/>
                </a:solidFill>
                <a:latin typeface="Bitstream Vera Sans"/>
              </a:rPr>
              <a:t>, v přírodě méně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Zajímavost</a:t>
            </a: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mí výborně plavat a potápět se. Pomáhá si širokými tlapami s plovacími blánami. Žije obvykle samotářsky, jen v místech, kde je dostatek potravy, se shromáždí i několik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dvědů. V posledních letech vyhledávají medvědi okolí měst, kde hledají zbytky jídel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6560" y="1980720"/>
            <a:ext cx="4267080" cy="342900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(latinský název)        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Garamond"/>
              </a:rPr>
              <a:t>Ursus mariti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(anglický název)          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Garamond"/>
              </a:rPr>
              <a:t>Sea b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(německý název) </a:t>
            </a:r>
            <a:r>
              <a:rPr b="1" lang="cs-CZ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 u="sng">
                <a:solidFill>
                  <a:srgbClr val="00ff00"/>
                </a:solidFill>
                <a:uFillTx/>
                <a:latin typeface="Garamond"/>
                <a:ea typeface="Arial"/>
              </a:rPr>
              <a:t>Polarbär,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Biotop</a:t>
            </a:r>
            <a:r>
              <a:rPr b="1" lang="cs-CZ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403848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S</a:t>
            </a:r>
            <a:r>
              <a:rPr b="1" lang="cs-CZ" sz="4000" spc="-1" strike="noStrike">
                <a:solidFill>
                  <a:srgbClr val="ffff00"/>
                </a:solidFill>
                <a:latin typeface="Palatino Linotype"/>
              </a:rPr>
              <a:t>everní </a:t>
            </a:r>
            <a:r>
              <a:rPr b="1" lang="cs-CZ" sz="40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Amerika, Asie, S. Polární</a:t>
            </a:r>
            <a:r>
              <a:rPr b="1" lang="cs-CZ" sz="4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cs-CZ" sz="40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oblasti</a:t>
            </a:r>
            <a:r>
              <a:rPr b="1" lang="cs-CZ" sz="4000" spc="-1" strike="noStrike">
                <a:solidFill>
                  <a:srgbClr val="ffff00"/>
                </a:solidFill>
                <a:latin typeface="Palatino Linotype"/>
              </a:rPr>
              <a:t> </a:t>
            </a:r>
            <a:r>
              <a:rPr b="1" lang="cs-CZ" sz="4000" spc="-1" strike="noStrike">
                <a:solidFill>
                  <a:srgbClr val="ffff00"/>
                </a:solidFill>
                <a:latin typeface="Palatino Linotype"/>
                <a:ea typeface="Times New Roman"/>
              </a:rPr>
              <a:t>ledovcová pole, mořská pobřeží, volné moře , tundra</a:t>
            </a:r>
            <a:r>
              <a:rPr b="1" lang="cs-CZ" sz="4000" spc="-1" strike="noStrike">
                <a:solidFill>
                  <a:srgbClr val="ffff00"/>
                </a:solidFill>
                <a:latin typeface="Palatino Linotype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Obrazek"/>
          <p:cNvPicPr/>
          <p:nvPr/>
        </p:nvPicPr>
        <p:blipFill>
          <a:blip r:embed="rId2"/>
          <a:stretch/>
        </p:blipFill>
        <p:spPr>
          <a:xfrm>
            <a:off x="5105520" y="274320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dnebný pá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648320"/>
          </a:xfrm>
          <a:prstGeom prst="rect">
            <a:avLst/>
          </a:prstGeom>
          <a:solidFill>
            <a:srgbClr val="3333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Ledový pá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s: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rónsko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jvětší ostrov na světě,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e jen 15 procent jeho území je trvale bez ledu. Zbytek pokrývá led dosahující místy mocnosti až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00 m.V Únoru je teplota kolem 2°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Amerika je kontinent na severní zemské polokouli. Severní Amerika má rozlohu 24 230 000 km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5:04:29Z</dcterms:created>
  <dc:creator>Bednarovi</dc:creator>
  <dc:description/>
  <dc:language>en-US</dc:language>
  <cp:lastModifiedBy>Jirka</cp:lastModifiedBy>
  <dcterms:modified xsi:type="dcterms:W3CDTF">2007-06-01T16:51:45Z</dcterms:modified>
  <cp:revision>10</cp:revision>
  <dc:subject/>
  <dc:title>Den země:</dc:title>
</cp:coreProperties>
</file>