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54462-BEA4-44D9-AE34-4F25BE4384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51B-2F04-4372-8EC4-EE690C8C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07720"/>
            <a:ext cx="90676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13F-0495-4B67-ACC4-CE636534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07720"/>
            <a:ext cx="90676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EFD-5524-4556-8454-D29D4C37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07720"/>
            <a:ext cx="90676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7FF-83FE-4FE9-BB50-25CD3DF3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07720"/>
            <a:ext cx="90676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2E5-DB24-44E3-81B8-042F95BD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07720"/>
            <a:ext cx="90676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D71-592B-4CF0-B1EE-00A03853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07720"/>
            <a:ext cx="90676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6E3-0E80-4EF4-B4D4-D550B01C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07720"/>
            <a:ext cx="90676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5C9-F953-424F-91BF-55A80434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07720"/>
            <a:ext cx="906768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AF4-1B7A-4F08-89E6-CBBC0E2F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07720"/>
            <a:ext cx="90676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94F-150B-4B8B-99BB-6E7C660D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07720"/>
            <a:ext cx="90676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A21-CEB4-4090-8E85-A5B69A4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07720"/>
            <a:ext cx="90676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96A-1161-4DB9-87C0-3EC5E24B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07720"/>
            <a:ext cx="9067680" cy="14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1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1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11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1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1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11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11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3BFB4-FA23-4989-969F-A0C3A03D9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s.wikipedia.org/wiki/Irbis" TargetMode="External"/><Relationship Id="rId3" Type="http://schemas.openxmlformats.org/officeDocument/2006/relationships/hyperlink" Target="http://tululum.blog.cz/0609/irbis-snezny-levhart" TargetMode="External"/><Relationship Id="rId4" Type="http://schemas.openxmlformats.org/officeDocument/2006/relationships/hyperlink" Target="http://www.lucka79.estranky.cz/fotoalbum/zvirata/velke-kocky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600000">
            <a:off x="3005280" y="165240"/>
            <a:ext cx="414000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cc99"/>
                </a:solidFill>
                <a:latin typeface="Times New Roman"/>
              </a:rPr>
              <a:t>Den Zem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1180000">
            <a:off x="2170080" y="1432080"/>
            <a:ext cx="55800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b80047"/>
                </a:solidFill>
                <a:latin typeface="Times New Roman"/>
              </a:rPr>
              <a:t>Po stopách ohrožených zvíř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2340000"/>
            <a:ext cx="5400720" cy="521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222800" y="1163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723160" y="22431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60360" y="4403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982800" y="442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9083520" y="5843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243160" y="69231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8280360" y="179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9899640" cy="6480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80000" y="2363760"/>
            <a:ext cx="3421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6633"/>
                </a:solidFill>
                <a:latin typeface="Arial"/>
              </a:rPr>
              <a:t>Průběh prezent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03320"/>
            <a:ext cx="9720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e6e6e6"/>
                </a:solidFill>
                <a:latin typeface="DejaVu Serif"/>
              </a:rPr>
              <a:t>Levhart Sněžný - Obsa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" y="0"/>
            <a:ext cx="9540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ejaVu Serif"/>
              </a:rPr>
              <a:t>Levhart Sněžný - </a:t>
            </a:r>
            <a:r>
              <a:rPr b="0" lang="en-US" sz="6000" spc="-1" strike="noStrike">
                <a:solidFill>
                  <a:srgbClr val="ff0000"/>
                </a:solidFill>
                <a:latin typeface="DejaVu Serif"/>
              </a:rPr>
              <a:t>Obsa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165240" cy="1081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16360" y="3059280"/>
            <a:ext cx="2879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onomické zařa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sk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nož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rož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4140360" cy="630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174600"/>
            <a:ext cx="990144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e6e6e6"/>
                </a:solidFill>
                <a:latin typeface="DejaVu Serif"/>
              </a:rPr>
              <a:t>Levhart Sněžný</a:t>
            </a:r>
            <a:r>
              <a:rPr b="0" lang="en-US" sz="4400" spc="-1" strike="noStrike">
                <a:solidFill>
                  <a:srgbClr val="e6e6e6"/>
                </a:solidFill>
                <a:latin typeface="DejaVu Serif"/>
              </a:rPr>
              <a:t>  - Zařa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360360"/>
            <a:ext cx="95392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1440000"/>
            <a:ext cx="5219640" cy="3060720"/>
          </a:xfrm>
          <a:prstGeom prst="wedgeRectCallout">
            <a:avLst>
              <a:gd name="adj1" fmla="val -90680"/>
              <a:gd name="adj2" fmla="val 3516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Sněžný levhart se v přírodě stává stále vzácnějším a na celé řadě míst je již zcela vyhu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ejaVu San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DejaVu Sans"/>
              </a:rPr>
              <a:t>Zařaze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Kmen: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Strunatci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(Chor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Podkmen: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Obratlovci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(Mamm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Řád: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Šelmy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(Carniv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Čeleď: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Kočkovité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</a:rPr>
              <a:t>(Felid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165240" cy="1081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2040" y="101520"/>
            <a:ext cx="9450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ejaVu Serif"/>
              </a:rPr>
              <a:t>Levhart Sněžný</a:t>
            </a:r>
            <a:r>
              <a:rPr b="0" lang="en-US" sz="4400" spc="-1" strike="noStrike">
                <a:solidFill>
                  <a:srgbClr val="000000"/>
                </a:solidFill>
                <a:latin typeface="DejaVu Serif"/>
              </a:rPr>
              <a:t> - </a:t>
            </a:r>
            <a:r>
              <a:rPr b="0" lang="en-US" sz="4400" spc="-1" strike="noStrike">
                <a:solidFill>
                  <a:srgbClr val="ff0000"/>
                </a:solidFill>
                <a:latin typeface="DejaVu Serif"/>
              </a:rPr>
              <a:t>Zařa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9640" y="239760"/>
            <a:ext cx="9450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e6e6e6"/>
                </a:solidFill>
                <a:latin typeface="DejaVu Serif"/>
              </a:rPr>
              <a:t>Levhart Sněžný</a:t>
            </a:r>
            <a:r>
              <a:rPr b="0" lang="en-US" sz="4400" spc="-1" strike="noStrike">
                <a:solidFill>
                  <a:srgbClr val="e6e6e6"/>
                </a:solidFill>
                <a:latin typeface="DejaVu Serif"/>
              </a:rPr>
              <a:t> - Výsky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165240" cy="1081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101520"/>
            <a:ext cx="8640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ejaVu Serif"/>
              </a:rPr>
              <a:t>Levhart Sněžný</a:t>
            </a:r>
            <a:r>
              <a:rPr b="0" lang="en-US" sz="4400" spc="-1" strike="noStrike">
                <a:solidFill>
                  <a:srgbClr val="000000"/>
                </a:solidFill>
                <a:latin typeface="DejaVu Serif"/>
              </a:rPr>
              <a:t> - </a:t>
            </a:r>
            <a:r>
              <a:rPr b="0" lang="en-US" sz="4400" spc="-1" strike="noStrike">
                <a:solidFill>
                  <a:srgbClr val="ff0000"/>
                </a:solidFill>
                <a:latin typeface="DejaVu Serif"/>
              </a:rPr>
              <a:t>Výsky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140360" y="1787400"/>
            <a:ext cx="5760720" cy="5052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1979640"/>
            <a:ext cx="3780000" cy="3960720"/>
          </a:xfrm>
          <a:prstGeom prst="wedgeRectCallout">
            <a:avLst>
              <a:gd name="adj1" fmla="val 98745"/>
              <a:gd name="adj2" fmla="val 4075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lvl="1" marL="35712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Arial"/>
              </a:rPr>
              <a:t>Úkrytem jsou mu jeskyně a skalní rozsedliny. Velikost teritoria je  asi 600-1000 km2. Jeho plavošedý kožich má hustou a dlouhou srst, která udržuje teplo i v chladných vysokohorských oblastech. Vyskytuje se ve státech jako je například Afghánistán, Bhútán, Čí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35712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934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Arial"/>
              </a:rPr>
              <a:t>V zimě schází do nižších obla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580000" y="1260360"/>
            <a:ext cx="4319640" cy="6120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239760"/>
            <a:ext cx="9450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e6e6e6"/>
                </a:solidFill>
                <a:latin typeface="DejaVu Serif"/>
              </a:rPr>
              <a:t>Levhart Sněžný</a:t>
            </a:r>
            <a:r>
              <a:rPr b="0" lang="en-US" sz="2800" spc="-1" strike="noStrike">
                <a:solidFill>
                  <a:srgbClr val="e6e6e6"/>
                </a:solidFill>
                <a:latin typeface="DejaVu Serif"/>
              </a:rPr>
              <a:t> - Rozmnož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0360" y="101520"/>
            <a:ext cx="9720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ejaVu Serif"/>
              </a:rPr>
              <a:t>Levhart Sněžný</a:t>
            </a:r>
            <a:r>
              <a:rPr b="0" lang="en-US" sz="2800" spc="-1" strike="noStrike">
                <a:solidFill>
                  <a:srgbClr val="000000"/>
                </a:solidFill>
                <a:latin typeface="DejaVu Serif"/>
              </a:rPr>
              <a:t> - </a:t>
            </a:r>
            <a:r>
              <a:rPr b="0" lang="en-US" sz="2800" spc="-1" strike="noStrike">
                <a:solidFill>
                  <a:srgbClr val="ff0000"/>
                </a:solidFill>
                <a:latin typeface="DejaVu Serif"/>
              </a:rPr>
              <a:t>Rozmnož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0360" y="1260360"/>
            <a:ext cx="5040360" cy="2521080"/>
          </a:xfrm>
          <a:prstGeom prst="wedgeRectCallout">
            <a:avLst>
              <a:gd name="adj1" fmla="val 92060"/>
              <a:gd name="adj2" fmla="val 13225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177840">
              <a:lnSpc>
                <a:spcPct val="108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bis dosahuje v přírodě průměrného věku 15 - 18 let. K rozmnožování může docházet v kteroukoliv roční dobu, nejčastěji v únoru a březnu. Březost trvá okolo 95 dní. Rodí se 2 - 3 mláďata, vyjímečně i 4 až 5 mláďat. Porodní hmotnost je mezi 320-708g. S matkou zůstávají asi 18 měsíc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65240" cy="1081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940360" y="1260360"/>
            <a:ext cx="3959280" cy="6120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9640" y="103320"/>
            <a:ext cx="9361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e6e6e6"/>
                </a:solidFill>
                <a:latin typeface="DejaVu Serif"/>
              </a:rPr>
              <a:t>Levhart Sněžný</a:t>
            </a:r>
            <a:r>
              <a:rPr b="0" lang="en-US" sz="4400" spc="-1" strike="noStrike">
                <a:solidFill>
                  <a:srgbClr val="e6e6e6"/>
                </a:solidFill>
                <a:latin typeface="DejaVu Serif"/>
              </a:rPr>
              <a:t> - Ohrož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0"/>
            <a:ext cx="9360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ejaVu Serif"/>
              </a:rPr>
              <a:t>Levhart Sněžný</a:t>
            </a:r>
            <a:r>
              <a:rPr b="0" lang="en-US" sz="4400" spc="-1" strike="noStrike">
                <a:solidFill>
                  <a:srgbClr val="000000"/>
                </a:solidFill>
                <a:latin typeface="DejaVu Serif"/>
              </a:rPr>
              <a:t> - </a:t>
            </a:r>
            <a:r>
              <a:rPr b="0" lang="en-US" sz="4400" spc="-1" strike="noStrike">
                <a:solidFill>
                  <a:srgbClr val="ff0000"/>
                </a:solidFill>
                <a:latin typeface="DejaVu Serif"/>
              </a:rPr>
              <a:t>Ohrož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3780000"/>
            <a:ext cx="5761080" cy="2339640"/>
          </a:xfrm>
          <a:prstGeom prst="wedgeRectCallout">
            <a:avLst>
              <a:gd name="adj1" fmla="val 80995"/>
              <a:gd name="adj2" fmla="val -539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>
              <a:lnSpc>
                <a:spcPct val="104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ěžný levhart patří mezi kriticky ohrožené druh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 jedno z nejvíce ohrožených zvířat současnosti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svou krásnou, hebkou kožešinu se dostal mez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jně ohrožené druhy. Irbis se v přírodě vyskytuj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ice řídce a také v zoologických zahradách je ji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lo. Než lidé stačily irbisy poznat, téměř je vyhub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65240" cy="1081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0360" y="1147680"/>
            <a:ext cx="486108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Stupně ohrožení:</a:t>
            </a:r>
            <a:br>
              <a:rPr sz="11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Vymřelý v přír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DejaVu Sans"/>
                <a:ea typeface="DejaVu San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DejaVu Sans"/>
                <a:ea typeface="DejaVu Sans"/>
              </a:rPr>
              <a:t>Kriticky ohrože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Ohrože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Zranitel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Nižší riziko ohro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Běž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DejaVu Sans"/>
                <a:ea typeface="DejaVu Sans"/>
              </a:rPr>
              <a:t>Místy běž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8200" y="103320"/>
            <a:ext cx="9361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e6e6e6"/>
                </a:solidFill>
                <a:latin typeface="DejaVu Serif"/>
              </a:rPr>
              <a:t>Levhart Sněžný </a:t>
            </a:r>
            <a:r>
              <a:rPr b="0" lang="en-US" sz="4800" spc="-1" strike="noStrike">
                <a:solidFill>
                  <a:srgbClr val="e6e6e6"/>
                </a:solidFill>
                <a:latin typeface="DejaVu Serif"/>
              </a:rPr>
              <a:t>- Čerpá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0360" y="0"/>
            <a:ext cx="972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ejaVu Serif"/>
              </a:rPr>
              <a:t>Levhart Sněžný</a:t>
            </a:r>
            <a:r>
              <a:rPr b="0" lang="en-US" sz="4800" spc="-1" strike="noStrike">
                <a:solidFill>
                  <a:srgbClr val="000000"/>
                </a:solidFill>
                <a:latin typeface="DejaVu Serif"/>
              </a:rPr>
              <a:t> - </a:t>
            </a:r>
            <a:r>
              <a:rPr b="0" lang="en-US" sz="4800" spc="-1" strike="noStrike">
                <a:solidFill>
                  <a:srgbClr val="ff0000"/>
                </a:solidFill>
                <a:latin typeface="DejaVu Serif"/>
              </a:rPr>
              <a:t>Čerpá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19640" y="7186680"/>
            <a:ext cx="4861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tvořeno za pomocí OpenSourc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967360" y="1081080"/>
            <a:ext cx="3932280" cy="612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165240" cy="1081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7840" y="1440000"/>
            <a:ext cx="5761080" cy="2160360"/>
          </a:xfrm>
          <a:prstGeom prst="wedgeRectCallout">
            <a:avLst>
              <a:gd name="adj1" fmla="val 84680"/>
              <a:gd name="adj2" fmla="val 6459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erpáno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s.wikipedia.org/wiki/Ir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tululum.blog.cz/0609/irbis-snezny-lev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lucka79.estranky.cz/fotoalbum/zvirata/velke-ko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rka</cp:lastModifiedBy>
  <dcterms:modified xsi:type="dcterms:W3CDTF">2007-06-01T16:50:05Z</dcterms:modified>
  <cp:revision>1</cp:revision>
  <dc:subject/>
  <dc:title>Snímek 1</dc:title>
</cp:coreProperties>
</file>