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wmf" ContentType="image/x-wmf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5CB-42AC-48C2-BA64-FAD83559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798-EA7C-4DFC-A218-484C6145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988-0832-463B-A61B-A0A094DA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991-F033-427A-8167-260E10A1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9E98-802A-464B-B378-CF2CB39A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A929-F2F2-4C85-A41C-C3CEA722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CC6E-337B-495D-8B65-074B7E1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A729-0D82-4DBD-884F-6402F274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92C2-1EA4-4BBA-9E3E-67C5A05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C9E2-E416-4A99-A03A-790ECF9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1A27-5290-4F16-8DF7-7BB1663D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F27-B329-45B5-A662-131C016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A36D-38DD-4151-9394-82D90DC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4B4-7012-4366-BBC3-0072374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32A3-2FCA-4564-AACD-FCA9538D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505D-7D07-4A3B-AA70-E94E407B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9449-16A9-4B57-9158-28B3E193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486-9021-4816-B2FC-C6AAE74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E5A-F52C-497A-882F-462AD5C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A13-6A6D-48FE-B6CC-E9F31F4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A07-203E-4250-B802-1D5BBA4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FD8-04C5-46D7-8944-A74FD9B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5125-F862-4771-9FCA-E71C23C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6A44-B75F-4056-A59A-CD155100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87D3-2C25-4E20-910C-3D5719508B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FA6E-37C9-43AD-B832-CE6BB64DAEA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5914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 u="sng">
                <a:solidFill>
                  <a:srgbClr val="33ccff"/>
                </a:solidFill>
                <a:uFillTx/>
                <a:latin typeface="Wide Latin"/>
              </a:rPr>
              <a:t>DEN ZEMĚ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4005000"/>
            <a:ext cx="8209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Tahoma"/>
              </a:rPr>
              <a:t>  </a:t>
            </a:r>
            <a:r>
              <a:rPr b="1" i="1" lang="en-US" sz="4400" spc="-1" strike="noStrike">
                <a:solidFill>
                  <a:srgbClr val="66ffff"/>
                </a:solidFill>
                <a:latin typeface="Tempus Sans ITC"/>
              </a:rPr>
              <a:t>Po stopách ohrožených                zvíř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1822320" cy="183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Délka život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v přírodě se dožívá až 15-ti l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v zajetí vyjímečně až 30-ti l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700360" y="3357720"/>
            <a:ext cx="3889440" cy="292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Ohrože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tento druh lva je ve světě kriticky ohrožen (hrozí mu vyhynutí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ve světě se objevuje už je asi 250 ks vzácného lva.</a:t>
            </a:r>
            <a:r>
              <a:rPr b="0" lang="en-US" sz="26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32200" y="1600200"/>
            <a:ext cx="3279600" cy="2187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Stupně ohrože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Vymřelý v přírodě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ff"/>
                </a:solidFill>
                <a:uFillTx/>
                <a:latin typeface="Tempus Sans ITC"/>
              </a:rPr>
              <a:t>Kriticky ohrožen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Ohrožený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Zranitelný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Nižší riziko ohrož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Běžný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Místy běžný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960720" cy="2621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Zajímavost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Po vypuzení mláděte překousne lvice pupeční šňůru a tím se zpustí vlastní dýchání mládě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Lví samec dokáže během dne až 45 kg masa, poté několik dní tráví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843440" y="2381400"/>
            <a:ext cx="327348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 u="sng">
                <a:solidFill>
                  <a:srgbClr val="33ccff"/>
                </a:solidFill>
                <a:uFillTx/>
                <a:latin typeface="Wide Latin"/>
              </a:rPr>
              <a:t>Podnebný pás</a:t>
            </a: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cc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Travnaté pláně, zalesněné oblasti Afriky a Západní Indi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cc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 </a:t>
            </a: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Rovníková Afrika, topické a suptropické lesy (hodně srážek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19560" y="2556000"/>
            <a:ext cx="3095640" cy="2619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Zoogeografické za</a:t>
            </a:r>
            <a:r>
              <a:rPr b="1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ř</a:t>
            </a: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aze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1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cc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Převážně etiopská oblast, ale také orientální a palearktická oblas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cc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Např.savany, lesostepi, stepy, křovité oblasti, polopouště, pouště, tropické deštné prales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003640" y="1878120"/>
            <a:ext cx="3745080" cy="357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Mapa oblasti výskytu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019240" y="1703520"/>
            <a:ext cx="4686480" cy="4749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Výsky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Žije v západu asijské reservace Girský les (reservace Gimm Forrest) na poloostrově Kathiava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V zoologických zahradách po celém světě v rámci programu na jeho záchran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861000" cy="2594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Turistické zajímavost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Afrika je třetím největším kontinentem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Největším bodem je Kilimandžár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Největšími ostrovy patřícími k Africe jsou: Kanárské o., Maskarévy, Kormory a Madagaskar.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710240" y="2297160"/>
            <a:ext cx="3914640" cy="3136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Básni</a:t>
            </a: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č</a:t>
            </a:r>
            <a:r>
              <a:rPr b="1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k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25916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Ochraňujte zvířata,  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 </a:t>
            </a: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i když nejsou chlupatá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Mějte rádi i ty hnusné,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i když mají zuby kluzké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Zvířata tu žijí s námi,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mějte s nimi dobré plány.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118120" y="1989000"/>
            <a:ext cx="3382920" cy="3461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Toto jsou naši kamarádi…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               </a:t>
            </a: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Karel                                      Bá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  </a:t>
            </a:r>
            <a:r>
              <a:rPr b="0" lang="en-US" sz="3200" spc="-1" strike="noStrike">
                <a:solidFill>
                  <a:srgbClr val="66ffff"/>
                </a:solidFill>
                <a:latin typeface="Tempus Sans ITC"/>
              </a:rPr>
              <a:t>Vidíte</a:t>
            </a:r>
            <a:r>
              <a:rPr b="0" lang="en-US" sz="3200" spc="-1" strike="noStrike">
                <a:solidFill>
                  <a:srgbClr val="66ffff"/>
                </a:solidFill>
                <a:latin typeface="Tempus Sans ITC"/>
              </a:rPr>
              <a:t> jak dokáží být i nebezpečná zvířata sladká…, proto Vás prosíme pomožte nám je zachránit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4560" y="1698480"/>
            <a:ext cx="3025800" cy="2211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336840" cy="2224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Závě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cc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Chtěli bychom poděkovat všem kteří nám pomohli vytvořit tento projek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66ffff"/>
                </a:solidFill>
                <a:latin typeface="Tempus Sans ITC"/>
              </a:rPr>
              <a:t>S pozdrav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Lucka Sitová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Katka  Palkovičová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Katka Fialová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Pavel Korbič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Jirka Kouříle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6ffff"/>
                </a:solidFill>
                <a:latin typeface="Tempus Sans ITC"/>
              </a:rPr>
              <a:t>a naši kamarádi Karel a Bára</a:t>
            </a:r>
            <a:r>
              <a:rPr b="0" lang="cs-CZ" sz="2200" spc="-1" strike="noStrike">
                <a:solidFill>
                  <a:srgbClr val="66ffff"/>
                </a:solidFill>
                <a:latin typeface="Wingdings"/>
                <a:ea typeface="Wingdings"/>
              </a:rPr>
              <a:t>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4960" y="1844640"/>
            <a:ext cx="3699000" cy="425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Obsah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43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i="1" lang="en-US" sz="3300" spc="-1" strike="noStrike" u="sng">
                <a:solidFill>
                  <a:srgbClr val="66ffff"/>
                </a:solidFill>
                <a:uFillTx/>
                <a:latin typeface="Tempus Sans ITC"/>
              </a:rPr>
              <a:t>Živočich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Taxonom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Bioto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Potrav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Rozmnožová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Velik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Délka živ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Ohrož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Stupně ohrož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empus Sans ITC"/>
              </a:rPr>
              <a:t>Zajímav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05520" y="1413000"/>
            <a:ext cx="3714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i="1" lang="cs-CZ" sz="3300" spc="-1" strike="noStrike" u="sng">
                <a:solidFill>
                  <a:srgbClr val="66ffff"/>
                </a:solidFill>
                <a:uFillTx/>
                <a:latin typeface="Tempus Sans ITC"/>
              </a:rPr>
              <a:t>Geografie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Podnebný p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Zoografické zařa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Mapa obla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11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Turistické zajímav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Lev indick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ffff"/>
                </a:solidFill>
                <a:latin typeface="Tempus Sans ITC"/>
              </a:rPr>
              <a:t>   </a:t>
            </a:r>
            <a:r>
              <a:rPr b="1" lang="cs-CZ" sz="3200" spc="-1" strike="noStrike" u="sng">
                <a:solidFill>
                  <a:srgbClr val="66ffff"/>
                </a:solidFill>
                <a:uFillTx/>
                <a:latin typeface="Tempus Sans ITC"/>
              </a:rPr>
              <a:t>Latinský název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         </a:t>
            </a: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Panthera le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   </a:t>
            </a:r>
            <a:r>
              <a:rPr b="1" lang="cs-CZ" sz="3200" spc="-1" strike="noStrike" u="sng">
                <a:solidFill>
                  <a:srgbClr val="66ffff"/>
                </a:solidFill>
                <a:uFillTx/>
                <a:latin typeface="Tempus Sans ITC"/>
              </a:rPr>
              <a:t>Anglický název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          </a:t>
            </a: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Indian L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   </a:t>
            </a:r>
            <a:r>
              <a:rPr b="1" lang="cs-CZ" sz="3200" spc="-1" strike="noStrike" u="sng">
                <a:solidFill>
                  <a:srgbClr val="66ffff"/>
                </a:solidFill>
                <a:uFillTx/>
                <a:latin typeface="Tempus Sans ITC"/>
              </a:rPr>
              <a:t>Německý název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           </a:t>
            </a:r>
            <a:r>
              <a:rPr b="0" lang="cs-CZ" sz="3200" spc="-1" strike="noStrike">
                <a:solidFill>
                  <a:srgbClr val="66ffff"/>
                </a:solidFill>
                <a:latin typeface="Tempus Sans ITC"/>
              </a:rPr>
              <a:t>Lea Indis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88000" y="2190600"/>
            <a:ext cx="3816360" cy="3264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Taxonomi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Kmen: </a:t>
            </a: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Strunatci (chordat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Podkmen:</a:t>
            </a: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 Obratlovci (vertebrat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Třída:</a:t>
            </a: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 Savci (mammal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Řád:</a:t>
            </a:r>
            <a:r>
              <a:rPr b="1" lang="cs-CZ" sz="2800" spc="-1" strike="noStrike">
                <a:solidFill>
                  <a:srgbClr val="66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Šelmy (carmivara)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Čeleď</a:t>
            </a:r>
            <a:r>
              <a:rPr b="0" lang="cs-CZ" sz="2800" spc="-1" strike="noStrike" u="sng">
                <a:solidFill>
                  <a:srgbClr val="66ffff"/>
                </a:solidFill>
                <a:uFillTx/>
                <a:latin typeface="Tempus Sans ITC"/>
              </a:rPr>
              <a:t>:</a:t>
            </a:r>
            <a:r>
              <a:rPr b="0" lang="cs-CZ" sz="2800" spc="-1" strike="noStrike">
                <a:solidFill>
                  <a:srgbClr val="66ffff"/>
                </a:solidFill>
                <a:latin typeface="Tempus Sans ITC"/>
              </a:rPr>
              <a:t> Kočkovití (felida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1930320"/>
            <a:ext cx="3960720" cy="357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Biotop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Základní podmínkou pro výskyt lva na určitém území je dostatečné množství kořisti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V dnešní době se převážně vyskytuje v Africe jižně od Sahary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Lvi také obývají savany, stepy, lesostepi, křovinaté oblasti, polopouště, pouště a tropické deštné prales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3816360" cy="3052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Potrav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loví hlavně zebry, antilopy, prasata, žirafy, mláďata hrochů a slon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sní i ptáky, myši a ještěrk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148200" cy="37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Rozmno</a:t>
            </a:r>
            <a:r>
              <a:rPr b="1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ž</a:t>
            </a: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ování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4292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K rozmnožování lvů dochází ve volné přírodě většinou až při dosažení fyzické dospělosti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Dospělé samice přicházejí do říje bez ohledu na roční dobu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13906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129040" cy="2737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ccff"/>
                </a:solidFill>
                <a:uFillTx/>
                <a:latin typeface="Wide Latin"/>
              </a:rPr>
              <a:t>Velikos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Samec dorůstá délky 2,4 až 3,3 m a váží 150-250k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ffff"/>
              </a:buClr>
              <a:buSzPct val="6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ff"/>
                </a:solidFill>
                <a:latin typeface="Tempus Sans ITC"/>
              </a:rPr>
              <a:t>Samice dorůstá délky 2,4 až 2,7 m a váží 120-180 k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7:28:23Z</dcterms:created>
  <dc:creator>Sitovi</dc:creator>
  <dc:description/>
  <dc:language>en-US</dc:language>
  <cp:lastModifiedBy>Jirka</cp:lastModifiedBy>
  <dcterms:modified xsi:type="dcterms:W3CDTF">2007-06-01T16:49:32Z</dcterms:modified>
  <cp:revision>18</cp:revision>
  <dc:subject/>
  <dc:title>Den Země</dc:title>
</cp:coreProperties>
</file>