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D22-731B-4A89-8FC2-7B0D6A7C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8E6-CE9A-4EC5-8A8B-69D48240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B8A-89E5-4D36-B855-CE7D8EDF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C6A-5167-434C-98CA-D311B57F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00B-F19B-4A54-BE3E-FBB44461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9DF-C015-4FA3-B5B1-4D58EE61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9D6-812C-4659-8D9B-1A58DA4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659-801A-4AEE-B13B-A95610D9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306-CFE5-453D-A7AB-E439B699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91E-4066-4EC0-A25E-562689A4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5E0-7734-4282-AE5C-3BF72556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B80-0F8A-4736-9C19-91A848A7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C61B-9433-44C2-916C-529B5B093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" TargetMode="External"/><Relationship Id="rId2" Type="http://schemas.openxmlformats.org/officeDocument/2006/relationships/hyperlink" Target="http://www.google.cz/" TargetMode="External"/><Relationship Id="rId3" Type="http://schemas.openxmlformats.org/officeDocument/2006/relationships/hyperlink" Target="http://www.google.cz/" TargetMode="External"/><Relationship Id="rId4" Type="http://schemas.openxmlformats.org/officeDocument/2006/relationships/hyperlink" Target="http://www.google.cz/" TargetMode="External"/><Relationship Id="rId5" Type="http://schemas.openxmlformats.org/officeDocument/2006/relationships/hyperlink" Target="http://www.seznam.cz/" TargetMode="External"/><Relationship Id="rId6" Type="http://schemas.openxmlformats.org/officeDocument/2006/relationships/hyperlink" Target="http://www.seznam.cz/" TargetMode="External"/><Relationship Id="rId7" Type="http://schemas.openxmlformats.org/officeDocument/2006/relationships/hyperlink" Target="http://www.seznam.cz/" TargetMode="External"/><Relationship Id="rId8" Type="http://schemas.openxmlformats.org/officeDocument/2006/relationships/hyperlink" Target="http://www.seznam.cz/" TargetMode="External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zartova d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643400">
            <a:off x="324000" y="620280"/>
            <a:ext cx="2447640" cy="16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710000">
            <a:off x="6516720" y="4797000"/>
            <a:ext cx="18716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íla v dět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9519200">
            <a:off x="6705720" y="456840"/>
            <a:ext cx="2089080" cy="1425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certoval už od sv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i let se svou starší sestrou Nann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 11-ti letech složil svou první operu a ve 1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t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tech byl jmenován koncertním mist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640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íla v dospěl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 Dušků na Bertramce napsal slavného Dona Giovanni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 roce 1791, kdy měl být v Praze korunován českým králem Leopold II., napsal k tomuto aktu operu T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9398000">
            <a:off x="6857640" y="533520"/>
            <a:ext cx="2016000" cy="137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297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zart vytvořil během svého krátkého, leč umělecky velmi plodného života celkem 626 dě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dyby se hrály jeho skladby jedna za druhou, zněly by nepřetržitě 9 dní a nocí, což je 220 ho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8954600">
            <a:off x="7010280" y="533160"/>
            <a:ext cx="187344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jslavnější dí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y a zpěvoh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psal jich více než dva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ěvohra Don J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ět oper patří k největším klenotům operní tvor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Únos ze Serai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ouzelná flé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arova svat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n Giov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ì fan tut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9198800">
            <a:off x="6933960" y="53316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4782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vní mistrovské dí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pěvohra "Bastien a Bastienne", kterou Mozart složil v útlém věku 12 let, je jeho prvním mistrovským dí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9579800">
            <a:off x="6933960" y="457200"/>
            <a:ext cx="1944720" cy="1327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14600" y="33526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lední dílo Moz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zartovo poslední dílo bylo Requ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končil ho jeho žá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nz Xaver Süßma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12.1791 Mozart umírá ve Ví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579800">
            <a:off x="6933960" y="457200"/>
            <a:ext cx="1944720" cy="1327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8320" y="3780000"/>
            <a:ext cx="1832040" cy="270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297180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oogle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1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eznam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 rot="19579800">
            <a:off x="6933960" y="457200"/>
            <a:ext cx="19447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28:00Z</dcterms:created>
  <dc:creator>Učitel</dc:creator>
  <dc:description/>
  <dc:language>en-US</dc:language>
  <cp:lastModifiedBy>Vašek</cp:lastModifiedBy>
  <dcterms:modified xsi:type="dcterms:W3CDTF">2006-12-05T20:12:01Z</dcterms:modified>
  <cp:revision>4</cp:revision>
  <dc:subject/>
  <dc:title>Projekt</dc:title>
</cp:coreProperties>
</file>