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13F-4DE0-475D-B98B-5B6297AF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DDC-9271-4D37-9BDE-FCE1FFA3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B7A-C8AE-489E-82A3-4970B416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9C3-A03B-49B1-A4DC-571E4781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575-52BA-4817-A03A-19B40AEE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50C-6965-451F-B6DA-19CC970F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FD1-EF21-495A-ADB5-C4953FCD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E98-1C0D-4DA6-A097-421E010E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01D-8A06-461B-803B-4557D63B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9AA-721F-4A94-8D28-5EB685B1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59EC-46C6-4E2F-A4B3-4D5E679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D1C-A7FD-4ED2-8320-BC5933B0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AB3B-D8D5-4876-B7EA-3A4D62D03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" TargetMode="External"/><Relationship Id="rId2" Type="http://schemas.openxmlformats.org/officeDocument/2006/relationships/hyperlink" Target="http://www.seznam.cz/" TargetMode="External"/><Relationship Id="rId3" Type="http://schemas.openxmlformats.org/officeDocument/2006/relationships/hyperlink" Target="http://www.wikipedia.org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Amadeus Mozart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643400">
            <a:off x="324000" y="620280"/>
            <a:ext cx="2447640" cy="16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9710000">
            <a:off x="6516720" y="4797000"/>
            <a:ext cx="18716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oogle.cz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eznam.cz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is Jirásek: F.L.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 prezentaci se účastn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 Mí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vel Krát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oslav Ši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 Flí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ška Šmíd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gang Amadeus Mozart v Pra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18954600">
            <a:off x="611280" y="1052280"/>
            <a:ext cx="122868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916360" y="1052640"/>
            <a:ext cx="320976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zartovy návštěvy v Pra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19519200">
            <a:off x="324000" y="475920"/>
            <a:ext cx="1228680" cy="838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483920"/>
            <a:ext cx="4176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roce 1784 navštívil letní sídlo Bertramka a později roku 1791 se tam opět 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ále navštívil Stavovské divadlo, ve kterém se konala roku 1787 29.října premiéra opery Don Giov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řetí návštěva bylo Klemen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916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la Bertram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19398000">
            <a:off x="468360" y="404280"/>
            <a:ext cx="1228680" cy="838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23640" y="1484280"/>
            <a:ext cx="3671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ůvodně viniční usedlost ze 17. a 18. stol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ku 1784 se stává sídlem Duškov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kovi se zasloužili o uvedení mozartových op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ončil tam své největší dílo Don Giov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183200" cy="238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4167360"/>
            <a:ext cx="417672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vovské divad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9198800">
            <a:off x="539280" y="549360"/>
            <a:ext cx="122868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9280" y="1699920"/>
            <a:ext cx="3961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igoval z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arovu svat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žskou symfo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.října roku 1787 tu oddirigoval premiéru opery Don Giovanni věnovanou Pražan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960720" cy="24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88000" y="4076640"/>
            <a:ext cx="39290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ementin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19579800">
            <a:off x="468360" y="475920"/>
            <a:ext cx="1228680" cy="83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39280" y="1699920"/>
            <a:ext cx="3527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zart ho navštívil v lednu roku 1787 spolu s rozsáhlou sbírkou k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ho návštěvu připomíná busta u vcho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27640" y="3938760"/>
            <a:ext cx="3978000" cy="2501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27640" y="1284120"/>
            <a:ext cx="3960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obnosti tehdejší do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920" y="1413000"/>
            <a:ext cx="4505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ef Jungma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l to filozof, lexikograf, spisovatel a také překlad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l vůdčí osobností tzv. 2. generace obroz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luvnice českého jazy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Josef Jungmann"/>
          <p:cNvPicPr/>
          <p:nvPr/>
        </p:nvPicPr>
        <p:blipFill>
          <a:blip r:embed="rId1"/>
          <a:stretch/>
        </p:blipFill>
        <p:spPr>
          <a:xfrm>
            <a:off x="5181480" y="1523880"/>
            <a:ext cx="3105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clav Th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eský dramatik, herec a bás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vní český divadel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sal 50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kládal z něm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ef Dobrovsk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zykozpytec, český učenec a histor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doucí osobností národního obro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888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28:00Z</dcterms:created>
  <dc:creator>Učitel</dc:creator>
  <dc:description/>
  <dc:language>en-US</dc:language>
  <cp:lastModifiedBy>Jirka</cp:lastModifiedBy>
  <dcterms:modified xsi:type="dcterms:W3CDTF">2007-01-28T19:35:45Z</dcterms:modified>
  <cp:revision>12</cp:revision>
  <dc:subject/>
  <dc:title>Projekt</dc:title>
</cp:coreProperties>
</file>