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C73-3627-4635-A23A-5B6CE5E9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EE1-2BBA-48B5-8C8F-EA39B76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1D8-CF53-4A8D-A3F0-0FAEE6D2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782-A246-48BC-9BC8-887D0921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35E-2E4E-4DC3-9233-9DEEA3DB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26B-56F5-4ED9-AA90-ECB1D68A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EC9-ECED-4FD9-BBA4-AA7922D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C3F-E256-421F-97A6-490B1668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A96-8F0C-49BC-9695-BCC8A1F5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96D-4B5E-410A-8289-0D68A14A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F9E-3F52-49E3-81A5-CA8E6BA6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2AE-34C5-4B35-849C-1232B94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4D1-DA51-4FB9-82AE-0D7382515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search.centrum.cz/img-detail.php?url=http%3A%2F%2Fwww%2Estopin%2Dpraha%2Ecz%2Fimages%2Farticles%2Fmozart%2E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eznam.cz/" TargetMode="External"/><Relationship Id="rId2" Type="http://schemas.openxmlformats.org/officeDocument/2006/relationships/hyperlink" Target="http://www.google.cz/" TargetMode="External"/><Relationship Id="rId3" Type="http://schemas.openxmlformats.org/officeDocument/2006/relationships/hyperlink" Target="http://www.centrum.cz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tství a jeho c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643400">
            <a:off x="324000" y="620280"/>
            <a:ext cx="2447640" cy="16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710000">
            <a:off x="6516720" y="4797000"/>
            <a:ext cx="18716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ěk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těli bychom opět poděkovat panu učiteli Mandysovi za pomoc v grafické části prezentace a paní učitelce Jílkové za doložení většiny části informací. Děkuje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4319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. 11. 17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ozen v jihoněmeckém městě Aug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chován jako sborový zpěv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ěz-dovršil studiem na univerzi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ákala ho hu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ela salcburského arcibisku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jprve jako houslista poté zástupce dirig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borný houslista, pedagog, sklad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539400">
            <a:off x="6443280" y="333360"/>
            <a:ext cx="2089080" cy="142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84804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5122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 Marie Pert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era účet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řela ve čtyřech le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u 1747 se provdala za Leopolda Moz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ila 7 dětí na živu zůstaly jen dvě- Marie Anna-Nannerl-17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. 1. 1756- Johann Chrisostomus Wolfgang Amadeus (Moz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269000">
            <a:off x="6372000" y="620280"/>
            <a:ext cx="2016000" cy="137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7134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3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l drzý, nevychovaný, sprostý sprat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 třech letech se pokoušel hrát na klavír a šlo mu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 čtyřech už pěkně hr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5-6 letech začal kompon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poznal falešné tony- výborný sl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snášel trub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ec se pokusil zahnat jeho strach- bez výsled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ch zmizel, když mu bylo asi deset l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54200">
            <a:off x="7524360" y="836280"/>
            <a:ext cx="1368360" cy="127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1844640"/>
            <a:ext cx="3138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ydal se na cestu společně s maminkou směrem Mnich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ále přes Augsburg do Mannheim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 Mannheimu pracoval na několika zakázká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ískat místo u dvora se mu však nepodařil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 pěti měsících pokračoval dále do Paříž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ka v Paříži zemřel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lfgang musel nastoupit na zpáteční cest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ěl spoustu zakáz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té se dostal do finanční nouz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zemřel 5.prosince 179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752000">
            <a:off x="6587640" y="259920"/>
            <a:ext cx="1944720" cy="132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718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zartovy c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476244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rvé se octl na Moravě 1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opold Mozart s dvěma dětmi prchal před nemocí z Víd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. 12. 1767 se Mozartovi octli v Br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. 12. 1767 vystoupila mladá dvojice na koncertě v městském divadle na Zeleném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ěti doprovázel se svým orchestrem kapelník Abraham F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642200">
            <a:off x="7020000" y="18900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48360" y="1773360"/>
            <a:ext cx="383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 rot="19579800">
            <a:off x="0" y="54936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39840" y="244008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620640"/>
            <a:ext cx="268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zburg – rodné mě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říž - 17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ýn - 17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ag - 17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ano - 1769-17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Řím - 1769-17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pol - 1769-17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ha -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uzana Bub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éta Absolon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áš Tábor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a Drahot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na Balad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áh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 učitel Mand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í učitelka J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oženě podklady od paní učitelky Jíl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znam.c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oogle.c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entrum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28:00Z</dcterms:created>
  <dc:creator>Učitel</dc:creator>
  <dc:description/>
  <dc:language>en-US</dc:language>
  <cp:lastModifiedBy>moje...</cp:lastModifiedBy>
  <dcterms:modified xsi:type="dcterms:W3CDTF">2006-12-05T17:02:58Z</dcterms:modified>
  <cp:revision>11</cp:revision>
  <dc:subject/>
  <dc:title>Projekt</dc:title>
</cp:coreProperties>
</file>