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CA8-A775-4C7D-870D-628A08F2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96C-BDE5-4D3B-9F32-042E26E0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B3B-3AA4-4A13-9097-1B10457E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74A7-14FD-46E1-BB23-3D898901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4E51-AC0C-4B9F-A6BF-38988DAA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C0A0-B7B8-4397-AC9B-63DF888B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D603-2B21-4F33-B37B-2BA6A406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717C-1649-42F0-B906-28BDC67B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9799-E603-4746-9F10-794B253F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7E7-3C4D-4C98-9386-07ABD122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2A4-C347-4FFE-9635-206A4143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9D2-7973-4099-B7AE-5884E2EA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2781-D689-4FBD-82DC-7217AA1EF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cs.wikipedia.org/wiki/Soubor:Wappen_at_salzburg_stadt.png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upload.wikimedia.org/wikipedia/commons/e/ed/Salzburg_cathedral_frontview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fgang Amadeus Moz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dné mě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19643400">
            <a:off x="324000" y="620280"/>
            <a:ext cx="2447640" cy="1670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9710000">
            <a:off x="6516720" y="4797000"/>
            <a:ext cx="187164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d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řádají se zde hudební festivaly, divadelní a operní předsta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známější - letní Salcburský fest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rok přes 4000 předsta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avní místa pořádání - Velký festivalový d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lý festivalový d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kalní jízdá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19198800">
            <a:off x="0" y="475920"/>
            <a:ext cx="1944720" cy="1326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26920" y="4164120"/>
            <a:ext cx="345780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lenové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iška Trn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ub Sýk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ub Jir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tr Machá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chaela Navrátil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eta Klemš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 rot="19198800">
            <a:off x="0" y="475920"/>
            <a:ext cx="194472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 informac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z.salzburg.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s.wikipedia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ww.google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 rot="19198800">
            <a:off x="0" y="475920"/>
            <a:ext cx="194472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kou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19198800">
            <a:off x="178920" y="475920"/>
            <a:ext cx="1944720" cy="1326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777744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ografická polo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07552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alzburg leží nedaleko hranic s Německ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zdálený 25 km severně od pohoří Ten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ěstem protéká řeka Salz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19198800">
            <a:off x="323640" y="836640"/>
            <a:ext cx="122868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4104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lzbu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avní město rakouské spolkové země Salzburs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tvrté největší město Rakou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ěsto též zváno jako Mozarto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ké jádro města v roce 1996 zapsáno na Seznam světového dědictví UNE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 rot="19198800">
            <a:off x="0" y="475920"/>
            <a:ext cx="1944720" cy="1326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Salcburk – zna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35280" y="4653000"/>
            <a:ext cx="16891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ké stav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ášter sv. Petra – vysvěcen roku 11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hensalzburská pevnost – stavba zahájena v roce 1077, jen jednou neúspěšně obléhá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19198800">
            <a:off x="0" y="475920"/>
            <a:ext cx="1944720" cy="1326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195640" y="3357720"/>
            <a:ext cx="4751280" cy="31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tiškánský kostel – vybudován v polovině 8. st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zburský dó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okní stavba, na místě románské bazil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19198800">
            <a:off x="0" y="476280"/>
            <a:ext cx="1943280" cy="1325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1700280"/>
            <a:ext cx="4124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soké šk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ět universit a vysokých š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zarteum - nejznámější univer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tudium zpěvu a hudebních vě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19198800">
            <a:off x="0" y="475920"/>
            <a:ext cx="1944720" cy="1326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050920" y="3335400"/>
            <a:ext cx="46818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zartův rodný dů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ům č. 9 v ulici Getreidegasse - místo narození W. A. Mozarta (27.1.175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 r. 1880 muz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slavnější exponáty – Mozartovy dětské housle, klavír, rodinné portréty, dopi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 rot="19198800">
            <a:off x="0" y="475920"/>
            <a:ext cx="1944720" cy="1326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987640" y="4221000"/>
            <a:ext cx="30481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zartův dů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ům č. 8 na Hanibalově náměstí -  od roku 1773 novým domovem Mozartovy rod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zart zde žil do roku 17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ísto, kde  napsal celou řadu symfonií, divertiment, serenád, klavírních a houslových koncertů, dále pak árie, mše a další dí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 rot="19198800">
            <a:off x="0" y="475920"/>
            <a:ext cx="1944720" cy="1326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280836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28:00Z</dcterms:created>
  <dc:creator>Učitel</dc:creator>
  <dc:description/>
  <dc:language>en-US</dc:language>
  <cp:lastModifiedBy>Jirka</cp:lastModifiedBy>
  <dcterms:modified xsi:type="dcterms:W3CDTF">2007-01-28T19:38:15Z</dcterms:modified>
  <cp:revision>15</cp:revision>
  <dc:subject/>
  <dc:title>Projekt</dc:title>
</cp:coreProperties>
</file>