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360" y="-7405920"/>
            <a:ext cx="360" cy="162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499F-A530-431F-BF74-8FE9B99C5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ED8C-8DB5-4E58-9D66-B6716F905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6C0F-A7F7-4DD6-809E-F7B60FBEC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8E8F-8B1B-4785-B81E-FFC891F5A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9382-6455-4EE3-8ABB-35CA2FC6E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1A9E-FDF7-4BF8-AC06-1D3FE73FF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F642-224E-4BB9-94AB-961C9E62D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A834-1681-4E73-B83B-635489EB2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8993-E431-4A2D-88B4-BB676F5A0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525E-4811-4383-AB05-2AEBF784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B9E6-5F31-4B7F-94BB-E8860C36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B62A-4477-477B-AB91-AA38D478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DED03F-EF06-4F4F-AFFE-E5648308AF5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hyperlink" Target="http://cs.wikipedia.org/wiki/Soubor:Boesendorfer_fluegel3036.jpg" TargetMode="External"/><Relationship Id="rId3" Type="http://schemas.openxmlformats.org/officeDocument/2006/relationships/hyperlink" Target="http://cs.wikipedia.org/wiki/Soubor:Boesendorfer_fluegel3036.jpg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hyperlink" Target="http://images.google.cz/imgres?imgurl=http://www.stvanci.cz/obr/kostymy/Baroko_8.jpg&amp;imgrefurl=http://www.stvanci.cz/e/kostymy.htm&amp;h=1000&amp;w=661&amp;sz=97&amp;hl=cs&amp;start=2&amp;tbnid=g_XLNDLtd8QO6M:&amp;tbnh=149&amp;tbnw=98&amp;prev=/images%3Fq%3D%2BBaroko%2B%26svnum%3D10%26hl%3Dcs%26lr%3D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hyperlink" Target="javascript:Open(%22obr/velke/arnautova_1.jpg%22,%22width=359,height=500%22)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lfgang Amadeus Moz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eho doba - 18.stol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22200" y="620640"/>
            <a:ext cx="2448000" cy="16700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516720" y="4799160"/>
            <a:ext cx="1871640" cy="127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11120" y="1954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a projektu se podíleli:      Zdroj:Goo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arolína Mareš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nika Nedbal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chaela Pižl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rtin Dane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rtin Nov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-184320" y="152640"/>
            <a:ext cx="2235240" cy="2220840"/>
            <a:chOff x="-184320" y="152640"/>
            <a:chExt cx="2235240" cy="2220840"/>
          </a:xfrm>
        </p:grpSpPr>
        <p:pic>
          <p:nvPicPr>
            <p:cNvPr id="92" name="" descr=""/>
            <p:cNvPicPr/>
            <p:nvPr/>
          </p:nvPicPr>
          <p:blipFill>
            <a:blip r:embed="rId1"/>
            <a:stretch/>
          </p:blipFill>
          <p:spPr>
            <a:xfrm>
              <a:off x="-1440" y="622440"/>
              <a:ext cx="1873080" cy="12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 rot="18960000">
              <a:off x="-3240" y="623880"/>
              <a:ext cx="1873440" cy="12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olit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lasicismus (2. polovina 17. stol. a 18. stol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mění klasicismu ovlivňovala politická a společenská situ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ednotný ráz společenského života, umě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lná úřední vláda (Franci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948360" y="331920"/>
            <a:ext cx="2016360" cy="1374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655640" y="3959280"/>
            <a:ext cx="5184720" cy="26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rie Terez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Česká a Uherská králov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nžel František I. Štěpán Lotrinsk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rezínské refor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4000" y="406440"/>
            <a:ext cx="1944360" cy="13269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932360" y="1341360"/>
            <a:ext cx="3755880" cy="51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osef I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431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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7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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790 Víde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český král 1780 – 17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tka – M. Terez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ředstavitel evropského osvícenst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10160" y="-208080"/>
            <a:ext cx="2437560" cy="2311200"/>
            <a:chOff x="110160" y="-208080"/>
            <a:chExt cx="2437560" cy="231120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322200" y="260280"/>
              <a:ext cx="2016360" cy="13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 rot="19380000">
              <a:off x="320760" y="259920"/>
              <a:ext cx="2016000" cy="13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932360" y="1628640"/>
            <a:ext cx="367812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rchitektura klasicis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ednoduché zdob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ojúhelníkové ští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íce veřejných prostranst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lmi podobné baro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622440"/>
            <a:ext cx="1944720" cy="13269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500720" y="1484280"/>
            <a:ext cx="387828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udb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1520" y="2160720"/>
            <a:ext cx="4038840" cy="41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lavní styl homofo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nátová 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zvoj veřejných koncer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jznámější skladatel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622440"/>
            <a:ext cx="1944720" cy="1326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278320" y="1763640"/>
            <a:ext cx="282096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vé hudební nást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396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znikal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sní ro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ub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ympá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lavír (17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založil Bortolomeo Cristof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-184320" y="-239400"/>
            <a:ext cx="2235240" cy="2220840"/>
            <a:chOff x="-184320" y="-239400"/>
            <a:chExt cx="2235240" cy="2220840"/>
          </a:xfrm>
        </p:grpSpPr>
        <p:pic>
          <p:nvPicPr>
            <p:cNvPr id="74" name="" descr=""/>
            <p:cNvPicPr/>
            <p:nvPr/>
          </p:nvPicPr>
          <p:blipFill>
            <a:blip r:embed="rId1"/>
            <a:stretch/>
          </p:blipFill>
          <p:spPr>
            <a:xfrm>
              <a:off x="-1440" y="230040"/>
              <a:ext cx="1873080" cy="12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 rot="18960000">
              <a:off x="-3240" y="231840"/>
              <a:ext cx="1873440" cy="12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>
            <a:hlinkClick r:id="rId2"/>
          </p:cNvPr>
          <p:cNvSpPr/>
          <p:nvPr/>
        </p:nvSpPr>
        <p:spPr>
          <a:xfrm>
            <a:off x="2771640" y="222876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43400" y="1752480"/>
            <a:ext cx="434340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blék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Že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sily mnoho vrstev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bílá košile s dlouhými ruká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kruhy na kšandá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sukně a přes suk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eště jed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zdobný vrš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200" y="-89280"/>
            <a:ext cx="2529000" cy="2365920"/>
            <a:chOff x="7200" y="-89280"/>
            <a:chExt cx="2529000" cy="236592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227160" y="380880"/>
              <a:ext cx="208908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 rot="19500000">
              <a:off x="226800" y="380520"/>
              <a:ext cx="208908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57800" y="1371600"/>
            <a:ext cx="325440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ži nosil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paru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kabá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brokátové ves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bílé punčoc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.boty na podpat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-213840" y="-87840"/>
            <a:ext cx="2437560" cy="2311560"/>
            <a:chOff x="-213840" y="-87840"/>
            <a:chExt cx="2437560" cy="2311560"/>
          </a:xfrm>
        </p:grpSpPr>
        <p:pic>
          <p:nvPicPr>
            <p:cNvPr id="87" name="" descr=""/>
            <p:cNvPicPr/>
            <p:nvPr/>
          </p:nvPicPr>
          <p:blipFill>
            <a:blip r:embed="rId1"/>
            <a:stretch/>
          </p:blipFill>
          <p:spPr>
            <a:xfrm>
              <a:off x="-1440" y="380880"/>
              <a:ext cx="2016000" cy="13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 rot="19380000">
              <a:off x="-2880" y="380520"/>
              <a:ext cx="2016360" cy="13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57800" y="1523880"/>
            <a:ext cx="3371760" cy="4114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rojekt</dc:title>
</cp:coreProperties>
</file>