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18F-8B1C-45AB-855A-DB7FD652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8FDB-1B8F-4F7F-BDD0-064580FA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A1C-991F-4CA7-9D4A-66733421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7CF-46C6-427D-9030-8F438A87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E4AB-AD5C-43A5-898A-F3AA2E1D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2386-24CA-459E-9F5F-742ACFE8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80AB-96D1-4690-AA33-5329CC70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31EA-B819-4CED-A9D5-A0B0DD67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471D-2F49-4447-AB5C-96A229F8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EC49-0650-406F-91B5-1DD93770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F626-CBE7-4246-B412-2151496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580-1316-4085-99E8-52D4F23B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9061-87CA-44FB-A8E0-CC85450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2FDE-28C9-45BE-83F3-79652A6D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0139-7D49-41F0-8256-E0DCF1E3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8350-7091-4C5C-A070-428CD46F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1F94-98E9-4B95-8A02-E75D3398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578-8638-4E2A-B2CB-645C4877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027-FD4C-4056-AE7B-AC5C2486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DFA-06DA-4781-A0C6-9A8E82FE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9D2-9F34-48FD-A03D-E54CBA7E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BD8-2BF2-45DC-9442-3B1EADA5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0E6-7150-441B-A7FA-90459919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6D6-033A-4FC7-8666-60B76082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D64F-9476-440B-BB03-E2B62E192908}" type="slidenum">
              <a:rPr b="0" lang="cs-C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069D-B648-4A71-BE53-6CDB4D19574E}" type="slidenum">
              <a:rPr b="0" lang="cs-CZ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délník 1" descr=""/>
          <p:cNvPicPr/>
          <p:nvPr/>
        </p:nvPicPr>
        <p:blipFill>
          <a:blip r:embed="rId1"/>
          <a:stretch/>
        </p:blipFill>
        <p:spPr>
          <a:xfrm>
            <a:off x="1238400" y="738360"/>
            <a:ext cx="6070320" cy="65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délník 3" descr=""/>
          <p:cNvPicPr/>
          <p:nvPr/>
        </p:nvPicPr>
        <p:blipFill>
          <a:blip r:embed="rId1"/>
          <a:stretch/>
        </p:blipFill>
        <p:spPr>
          <a:xfrm>
            <a:off x="2554200" y="2530440"/>
            <a:ext cx="4084560" cy="3608280"/>
          </a:xfrm>
          <a:prstGeom prst="rect">
            <a:avLst/>
          </a:prstGeom>
          <a:ln w="0">
            <a:noFill/>
          </a:ln>
        </p:spPr>
      </p:pic>
      <p:pic>
        <p:nvPicPr>
          <p:cNvPr id="111" name="Obdélník 4" descr=""/>
          <p:cNvPicPr/>
          <p:nvPr/>
        </p:nvPicPr>
        <p:blipFill>
          <a:blip r:embed="rId2"/>
          <a:stretch/>
        </p:blipFill>
        <p:spPr>
          <a:xfrm>
            <a:off x="1006560" y="817560"/>
            <a:ext cx="72356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délník 3" descr=""/>
          <p:cNvPicPr/>
          <p:nvPr/>
        </p:nvPicPr>
        <p:blipFill>
          <a:blip r:embed="rId1"/>
          <a:stretch/>
        </p:blipFill>
        <p:spPr>
          <a:xfrm>
            <a:off x="2365200" y="66600"/>
            <a:ext cx="4913640" cy="1146240"/>
          </a:xfrm>
          <a:prstGeom prst="rect">
            <a:avLst/>
          </a:prstGeom>
          <a:ln w="0">
            <a:noFill/>
          </a:ln>
        </p:spPr>
      </p:pic>
      <p:sp>
        <p:nvSpPr>
          <p:cNvPr id="113" name="TextovéPole 4"/>
          <p:cNvSpPr/>
          <p:nvPr/>
        </p:nvSpPr>
        <p:spPr>
          <a:xfrm>
            <a:off x="785880" y="1357200"/>
            <a:ext cx="6000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rusky Bánj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zvyšuje obranyschopnost, dobře působí na dýchací cesty ap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do ruské sauny se chodí se chodí s vodkou a s fyzickými i psychickými nemocem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bánjy dělíme na dva druhy černá a bílá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 černé sauně se topí jako v peci na chlé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" descr="sauna"/>
          <p:cNvPicPr/>
          <p:nvPr/>
        </p:nvPicPr>
        <p:blipFill>
          <a:blip r:embed="rId2"/>
          <a:stretch/>
        </p:blipFill>
        <p:spPr>
          <a:xfrm rot="687000">
            <a:off x="4071960" y="4174920"/>
            <a:ext cx="2695680" cy="2152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www.schmitt-graf.de/clearpixel.gif"/>
          <p:cNvPicPr/>
          <p:nvPr/>
        </p:nvPicPr>
        <p:blipFill>
          <a:blip r:embed="rId3"/>
          <a:stretch/>
        </p:blipFill>
        <p:spPr>
          <a:xfrm>
            <a:off x="0" y="0"/>
            <a:ext cx="266760" cy="9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http://www.schmitt-graf.de/clearpixel.gif"/>
          <p:cNvPicPr/>
          <p:nvPr/>
        </p:nvPicPr>
        <p:blipFill>
          <a:blip r:embed="rId4"/>
          <a:stretch/>
        </p:blipFill>
        <p:spPr>
          <a:xfrm>
            <a:off x="0" y="0"/>
            <a:ext cx="3200400" cy="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://www.albanesi.it/Salute/cosafare/Imma/sauna.jpg"/>
          <p:cNvPicPr/>
          <p:nvPr/>
        </p:nvPicPr>
        <p:blipFill>
          <a:blip r:embed="rId5"/>
          <a:stretch/>
        </p:blipFill>
        <p:spPr>
          <a:xfrm>
            <a:off x="6858000" y="1571760"/>
            <a:ext cx="17794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délník 6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724212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délník 4" descr=""/>
          <p:cNvPicPr/>
          <p:nvPr/>
        </p:nvPicPr>
        <p:blipFill>
          <a:blip r:embed="rId1"/>
          <a:stretch/>
        </p:blipFill>
        <p:spPr>
          <a:xfrm>
            <a:off x="2352600" y="66600"/>
            <a:ext cx="414504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TextovéPole 5"/>
          <p:cNvSpPr/>
          <p:nvPr/>
        </p:nvSpPr>
        <p:spPr>
          <a:xfrm>
            <a:off x="785880" y="1357200"/>
            <a:ext cx="6000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Rusky „ </a:t>
            </a:r>
            <a:r>
              <a:rPr b="0" lang="az-Cyrl-AZ" sz="2200" spc="-1" strike="noStrike">
                <a:solidFill>
                  <a:srgbClr val="ffffff"/>
                </a:solidFill>
                <a:latin typeface="Times New Roman"/>
              </a:rPr>
              <a:t>матрёшка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“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tradiční dutá malovaná panenk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lze rozložit a skrývá ve svých utrobách několik dalších postupně menších panenek s vyjímkou nejmenš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první matrjoška byla vyrobena v 90.letech 19.stol. a jejím vzorem byla figurka plešatého budhistického mnicha – z Japonského ostrova Honš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zorová figurka „ fukurama “ rozložitelná stejně jako matrjošk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nápadu fukuramy se ujala kupecká rodina Mamontových a započali výrobu matrjoš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4065480" y="-336240"/>
            <a:ext cx="1012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1400" spc="-1" strike="noStrike">
                <a:solidFill>
                  <a:srgbClr val="000080"/>
                </a:solidFill>
                <a:latin typeface="Arial"/>
              </a:rPr>
              <a:t>Matrjoš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http://www.e-hracky.cz/zpravy/image/matrjoska.gif"/>
          <p:cNvPicPr/>
          <p:nvPr/>
        </p:nvPicPr>
        <p:blipFill>
          <a:blip r:embed="rId2"/>
          <a:stretch/>
        </p:blipFill>
        <p:spPr>
          <a:xfrm rot="21150600">
            <a:off x="7253280" y="2357280"/>
            <a:ext cx="1352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délník 4" descr=""/>
          <p:cNvPicPr/>
          <p:nvPr/>
        </p:nvPicPr>
        <p:blipFill>
          <a:blip r:embed="rId1"/>
          <a:stretch/>
        </p:blipFill>
        <p:spPr>
          <a:xfrm>
            <a:off x="3279600" y="66600"/>
            <a:ext cx="303552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5"/>
          <p:cNvSpPr/>
          <p:nvPr/>
        </p:nvSpPr>
        <p:spPr>
          <a:xfrm>
            <a:off x="785880" y="1357200"/>
            <a:ext cx="600084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destilát s vysokým obsahem alkohol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ětšina vodky se vyrábí z obilov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odka pochází ze S Evro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první zmíňka o vodce pochází z 13. st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15. stol. ochucování  medem a jínými látkam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odka se do Ruska dostala ve 14.st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odku do Ruska přivezli kupci z Janov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na Ruakých vesnicích se stále pije a pálí domácí pálenka zvaná „ samogon „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www.kobayashi5.com/images/2006/08/bong-vodka.jpg"/>
          <p:cNvPicPr/>
          <p:nvPr/>
        </p:nvPicPr>
        <p:blipFill>
          <a:blip r:embed="rId2"/>
          <a:stretch/>
        </p:blipFill>
        <p:spPr>
          <a:xfrm rot="254400">
            <a:off x="6695640" y="1356840"/>
            <a:ext cx="2190960" cy="342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www.sunsdutyfree.com/images/vodka/finlandia_vodka.jpg"/>
          <p:cNvPicPr/>
          <p:nvPr/>
        </p:nvPicPr>
        <p:blipFill>
          <a:blip r:embed="rId3"/>
          <a:stretch/>
        </p:blipFill>
        <p:spPr>
          <a:xfrm rot="20488800">
            <a:off x="4714560" y="4601880"/>
            <a:ext cx="14097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délník 4" descr=""/>
          <p:cNvPicPr/>
          <p:nvPr/>
        </p:nvPicPr>
        <p:blipFill>
          <a:blip r:embed="rId1"/>
          <a:stretch/>
        </p:blipFill>
        <p:spPr>
          <a:xfrm>
            <a:off x="731880" y="66600"/>
            <a:ext cx="706428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TextovéPole 5"/>
          <p:cNvSpPr/>
          <p:nvPr/>
        </p:nvSpPr>
        <p:spPr>
          <a:xfrm>
            <a:off x="785880" y="1357200"/>
            <a:ext cx="60008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dle ruských expertů má vodka chuť, nesmí se pít na ex a v žádném případě dát do mrazák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odka by měla mít teplotu 8°–10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pije </a:t>
            </a: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se malými doušky a dlouho převaluje v úst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tento způsob je vhodný jen pro kvalitní vod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kvalitní vodka - z ruských druhů je to vodka Flagman a Russkij stand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odborníci připouštějí, že levná vodka jako stoličnaja, pšeničnaja a další tradiční značky nemají s kvalitní lihovinou moc společné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 rot="1436400">
            <a:off x="6786720" y="4142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 rot="20955600">
            <a:off x="6858000" y="15494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délník 3" descr=""/>
          <p:cNvPicPr/>
          <p:nvPr/>
        </p:nvPicPr>
        <p:blipFill>
          <a:blip r:embed="rId1"/>
          <a:stretch/>
        </p:blipFill>
        <p:spPr>
          <a:xfrm>
            <a:off x="444600" y="66600"/>
            <a:ext cx="789444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TextovéPole 4"/>
          <p:cNvSpPr/>
          <p:nvPr/>
        </p:nvSpPr>
        <p:spPr>
          <a:xfrm>
            <a:off x="785880" y="1357200"/>
            <a:ext cx="60008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odce holdovali všichni rusští panovníc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Petr I. se rád napil, lae nutil i ostat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za jeho vlády se ujalo uctívání hostů hojným napáj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hosté z ciziny se na podmět cara zavírali do jedné místnosti do doby než vypili vše co jim bylo nabídnu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dobné uctívání návštěv se v humálnější formě traduje dod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286680" y="47862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délník 3" descr=""/>
          <p:cNvPicPr/>
          <p:nvPr/>
        </p:nvPicPr>
        <p:blipFill>
          <a:blip r:embed="rId1"/>
          <a:stretch/>
        </p:blipFill>
        <p:spPr>
          <a:xfrm>
            <a:off x="2639880" y="66600"/>
            <a:ext cx="3876840" cy="1146240"/>
          </a:xfrm>
          <a:prstGeom prst="rect">
            <a:avLst/>
          </a:prstGeom>
          <a:ln w="0">
            <a:noFill/>
          </a:ln>
        </p:spPr>
      </p:pic>
      <p:sp>
        <p:nvSpPr>
          <p:cNvPr id="100" name="TextovéPole 4"/>
          <p:cNvSpPr/>
          <p:nvPr/>
        </p:nvSpPr>
        <p:spPr>
          <a:xfrm>
            <a:off x="785880" y="1357200"/>
            <a:ext cx="6000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Rusky </a:t>
            </a:r>
            <a:r>
              <a:rPr b="0" lang="vi-VN" sz="2200" spc="-1" strike="noStrike">
                <a:solidFill>
                  <a:srgbClr val="ffffff"/>
                </a:solidFill>
                <a:latin typeface="Times New Roman"/>
              </a:rPr>
              <a:t>балала́й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strunný nástroj s trojdílnou rezonanční skří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3 struny případně 6 v pá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hmatník opatřen pražc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 dnešní době se vyskytuje v šesti velikoste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- piccolo (vzácná 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- pri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- sekun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- altov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- basov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- kontrabasov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http://stockholm.music.museum/press/Balalajka.jpg"/>
          <p:cNvPicPr/>
          <p:nvPr/>
        </p:nvPicPr>
        <p:blipFill>
          <a:blip r:embed="rId2"/>
          <a:stretch/>
        </p:blipFill>
        <p:spPr>
          <a:xfrm rot="5994600">
            <a:off x="5133240" y="3510000"/>
            <a:ext cx="2214360" cy="3195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http://server.infovek.sk/predmety/hudvych/fekova/Hudobnenastroje/Male/Balalajka.jpg"/>
          <p:cNvPicPr/>
          <p:nvPr/>
        </p:nvPicPr>
        <p:blipFill>
          <a:blip r:embed="rId3"/>
          <a:stretch/>
        </p:blipFill>
        <p:spPr>
          <a:xfrm rot="20730600">
            <a:off x="7500960" y="1143000"/>
            <a:ext cx="9525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délník 3" descr=""/>
          <p:cNvPicPr/>
          <p:nvPr/>
        </p:nvPicPr>
        <p:blipFill>
          <a:blip r:embed="rId1"/>
          <a:stretch/>
        </p:blipFill>
        <p:spPr>
          <a:xfrm>
            <a:off x="2359080" y="66600"/>
            <a:ext cx="3992400" cy="1146240"/>
          </a:xfrm>
          <a:prstGeom prst="rect">
            <a:avLst/>
          </a:prstGeom>
          <a:ln w="0">
            <a:noFill/>
          </a:ln>
        </p:spPr>
      </p:pic>
      <p:sp>
        <p:nvSpPr>
          <p:cNvPr id="104" name="TextovéPole 4"/>
          <p:cNvSpPr/>
          <p:nvPr/>
        </p:nvSpPr>
        <p:spPr>
          <a:xfrm>
            <a:off x="785880" y="1357200"/>
            <a:ext cx="600084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čaj se dostal do Ruska v podobě daru od Mongolského chána Alty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čaj do Ruska putoval velbloudími karavanami z Čín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 roce 1903 nahradila vlaková spojení pomalé karavan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tradiční ruský čaj se tvoří v samov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říprava čaje: </a:t>
            </a:r>
            <a:r>
              <a:rPr b="0" i="1" lang="cs-CZ" sz="2400" spc="-1" strike="noStrike">
                <a:solidFill>
                  <a:srgbClr val="ffffff"/>
                </a:solidFill>
                <a:latin typeface="Book Antiqua"/>
              </a:rPr>
              <a:t>Nejprve se přichystá "zavarka", tedy spaří se silná dávka čaje v menší konvičce. Z té se nalévá silný čajový koncentrát do sklenek a ředí se horkou vodou právě ze samovaru. Obvykle se pak čaj pil přes cukr v zube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Samovarová rodinná pohoda"/>
          <p:cNvPicPr/>
          <p:nvPr/>
        </p:nvPicPr>
        <p:blipFill>
          <a:blip r:embed="rId2"/>
          <a:stretch/>
        </p:blipFill>
        <p:spPr>
          <a:xfrm>
            <a:off x="6800760" y="1628640"/>
            <a:ext cx="20574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délník 3" descr=""/>
          <p:cNvPicPr/>
          <p:nvPr/>
        </p:nvPicPr>
        <p:blipFill>
          <a:blip r:embed="rId1"/>
          <a:stretch/>
        </p:blipFill>
        <p:spPr>
          <a:xfrm>
            <a:off x="2541600" y="66600"/>
            <a:ext cx="368784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TextovéPole 4"/>
          <p:cNvSpPr/>
          <p:nvPr/>
        </p:nvSpPr>
        <p:spPr>
          <a:xfrm>
            <a:off x="785880" y="1357200"/>
            <a:ext cx="600084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samovar je nádoba, původně vytápěná dřevěným uhl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v samovaru se po celý den udržuje horká v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tradičně se vyrábí v Tu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Book Antiqua"/>
              </a:rPr>
              <a:t>d</a:t>
            </a: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ělaly se ze stříbra, mědi, železa i porcelánu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samovary měly a mají různé tv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http://www.russian-gifts-home.com/samovars/images/samovar.jpg"/>
          <p:cNvPicPr/>
          <p:nvPr/>
        </p:nvPicPr>
        <p:blipFill>
          <a:blip r:embed="rId2"/>
          <a:stretch/>
        </p:blipFill>
        <p:spPr>
          <a:xfrm>
            <a:off x="6000840" y="3476520"/>
            <a:ext cx="2268360" cy="302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calacademy.org/exhibits/science_under_sail/images/samovar.jpg"/>
          <p:cNvPicPr/>
          <p:nvPr/>
        </p:nvPicPr>
        <p:blipFill>
          <a:blip r:embed="rId3"/>
          <a:stretch/>
        </p:blipFill>
        <p:spPr>
          <a:xfrm>
            <a:off x="6572160" y="365040"/>
            <a:ext cx="17049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6:04:19Z</dcterms:created>
  <dc:creator>PH</dc:creator>
  <dc:description/>
  <dc:language>en-US</dc:language>
  <cp:lastModifiedBy>PH</cp:lastModifiedBy>
  <dcterms:modified xsi:type="dcterms:W3CDTF">2008-05-07T04:39:13Z</dcterms:modified>
  <cp:revision>45</cp:revision>
  <dc:subject/>
  <dc:title>Snímek 1</dc:title>
</cp:coreProperties>
</file>