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A33-9C72-414F-BFA5-F3FCBFE8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981-6AB9-4973-A15E-F9A4A5F2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71A-8598-4736-A086-987CB486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8F2-C3F2-4C44-8B95-C9BAB7FD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A46DC-D8AC-4859-81FA-0F2130DF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282BE-E687-44E2-B970-F378A205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B79E3-4E5F-488D-9AC3-6D58CFED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C369C-E5D5-43B1-8CDE-61792C4F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7C8D9-7F4B-4A51-BC03-D653383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FEBAC-7A9E-4BD9-930A-BF323346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75EA-1B8C-4724-86FA-4E45DC8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016-C446-42DB-BA34-65E2E834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6E57A-F846-4EB1-9F8C-0BF0B3E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9EDAC-E316-4145-B898-7633F0C5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A6B4B-E535-46A2-8005-8B00255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3D7F6-55FF-4E4B-A4B5-819A7C7E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EC804-B3D1-4371-A635-3B37670F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04F-FF3C-4484-818E-9254AD62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8BF-D08D-4A56-8A37-ED995233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F0E-072E-4A81-8B6E-1C83554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8F8-1591-4BC5-BADD-93616B0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76E-2A02-4865-8D03-F4E1BDF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6B8-7027-4549-912D-95335EBD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C7A-BFAC-41B1-8105-12AAA69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7EE3-B034-42AA-9D0A-4700BD09D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1C0-6580-46F6-B846-7D7B1CD9B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Moskva" TargetMode="External"/><Relationship Id="rId3" Type="http://schemas.openxmlformats.org/officeDocument/2006/relationships/hyperlink" Target="http://cs.wikipedia.org/wiki/Petrohrad" TargetMode="External"/><Relationship Id="rId4" Type="http://schemas.openxmlformats.org/officeDocument/2006/relationships/hyperlink" Target="http://cs.wikipedia.org/wiki/Novosibirsk" TargetMode="External"/><Relationship Id="rId5" Type="http://schemas.openxmlformats.org/officeDocument/2006/relationships/hyperlink" Target="http://cs.wikipedia.org/wiki/Jekat&#283;rinburg" TargetMode="External"/><Relationship Id="rId6" Type="http://schemas.openxmlformats.org/officeDocument/2006/relationships/hyperlink" Target="http://cs.wikipedia.org/wiki/Ni&#382;nij_Novgorod" TargetMode="External"/><Relationship Id="rId7" Type="http://schemas.openxmlformats.org/officeDocument/2006/relationships/hyperlink" Target="http://cs.wikipedia.org/wiki/Samara" TargetMode="External"/><Relationship Id="rId8" Type="http://schemas.openxmlformats.org/officeDocument/2006/relationships/hyperlink" Target="http://cs.wikipedia.org/wiki/Omsk" TargetMode="External"/><Relationship Id="rId9" Type="http://schemas.openxmlformats.org/officeDocument/2006/relationships/hyperlink" Target="http://cs.wikipedia.org/wiki/Kaza&#328;" TargetMode="External"/><Relationship Id="rId10" Type="http://schemas.openxmlformats.org/officeDocument/2006/relationships/hyperlink" Target="http://cs.wikipedia.org/wiki/&#268;eljabinsk" TargetMode="External"/><Relationship Id="rId11" Type="http://schemas.openxmlformats.org/officeDocument/2006/relationships/hyperlink" Target="http://cs.wikipedia.org/wiki/Rostov_na_Donu" TargetMode="External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cz/imgres?imgurl=http://tojur.atspace.org/rusko2006/pics/2006-03-10.gif&amp;imgrefurl=http://tojur.atspace.org/rusko2006/rusko06_web-domoskvy.html&amp;h=332&amp;w=500&amp;sz=125&amp;hl=cs&amp;start=40&amp;um=1&amp;tbnid=83SzX27s78_ACM:&amp;tbnh=86&amp;tbnw=130&amp;prev=/images%3Fq%3Dpam%25C3%25A1tky%2BRusko%26start%3D20%26ndsp%3D20%26um%3D1%26hl%3Dcs%26lr%3D%26sa%3DN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Ru&#353;tina" TargetMode="External"/><Relationship Id="rId3" Type="http://schemas.openxmlformats.org/officeDocument/2006/relationships/hyperlink" Target="http://cs.wikipedia.org/wiki/Angli&#269;tina" TargetMode="External"/><Relationship Id="rId4" Type="http://schemas.openxmlformats.org/officeDocument/2006/relationships/hyperlink" Target="http://cs.wikipedia.org/wiki/Kavkaz" TargetMode="External"/><Relationship Id="rId5" Type="http://schemas.openxmlformats.org/officeDocument/2006/relationships/hyperlink" Target="http://cs.wikipedia.org/wiki/Rusko" TargetMode="External"/><Relationship Id="rId6" Type="http://schemas.openxmlformats.org/officeDocument/2006/relationships/hyperlink" Target="http://cs.wikipedia.org/wiki/Evropa" TargetMode="External"/><Relationship Id="rId7" Type="http://schemas.openxmlformats.org/officeDocument/2006/relationships/hyperlink" Target="http://cs.wikipedia.org/wiki/Sopka" TargetMode="External"/><Relationship Id="rId8" Type="http://schemas.openxmlformats.org/officeDocument/2006/relationships/hyperlink" Target="http://cs.wikipedia.org/wiki/Sn&#283;&#382;n&#225;_&#269;&#225;ra" TargetMode="External"/><Relationship Id="rId9" Type="http://schemas.openxmlformats.org/officeDocument/2006/relationships/hyperlink" Target="http://cs.wikipedia.org/wiki/Soubor:Albours.jpg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Ru&#353;tina" TargetMode="External"/><Relationship Id="rId3" Type="http://schemas.openxmlformats.org/officeDocument/2006/relationships/hyperlink" Target="http://cs.wikipedia.org/wiki/Jezero" TargetMode="External"/><Relationship Id="rId4" Type="http://schemas.openxmlformats.org/officeDocument/2006/relationships/hyperlink" Target="http://cs.wikipedia.org/wiki/Sibi&#345;" TargetMode="External"/><Relationship Id="rId5" Type="http://schemas.openxmlformats.org/officeDocument/2006/relationships/hyperlink" Target="http://cs.wikipedia.org/wiki/Rusko" TargetMode="External"/><Relationship Id="rId6" Type="http://schemas.openxmlformats.org/officeDocument/2006/relationships/hyperlink" Target="http://cs.wikipedia.org/wiki/Turkick&#233;_jazyky" TargetMode="External"/><Relationship Id="rId7" Type="http://schemas.openxmlformats.org/officeDocument/2006/relationships/hyperlink" Target="http://cs.wikipedia.org/wiki/Mongol&#353;tina" TargetMode="External"/><Relationship Id="rId8" Type="http://schemas.openxmlformats.org/officeDocument/2006/relationships/hyperlink" Target="http://cs.wikipedia.org/wiki/Burjatsko" TargetMode="External"/><Relationship Id="rId9" Type="http://schemas.openxmlformats.org/officeDocument/2006/relationships/hyperlink" Target="http://cs.wikipedia.org/wiki/Irkutsk&#225;_oblast" TargetMode="External"/><Relationship Id="rId10" Type="http://schemas.openxmlformats.org/officeDocument/2006/relationships/hyperlink" Target="http://cs.wikipedia.org/wiki/Sibi&#345;" TargetMode="External"/><Relationship Id="rId11" Type="http://schemas.openxmlformats.org/officeDocument/2006/relationships/hyperlink" Target="http://cs.wikipedia.org/wiki/Kaspick&#233;_mo&#345;e" TargetMode="External"/><Relationship Id="rId12" Type="http://schemas.openxmlformats.org/officeDocument/2006/relationships/hyperlink" Target="http://cs.wikipedia.org/wiki/Zem&#283;" TargetMode="External"/><Relationship Id="rId13" Type="http://schemas.openxmlformats.org/officeDocument/2006/relationships/hyperlink" Target="http://cs.wikipedia.org/w/index.php?title=P&#345;&#237;kopov&#225;_propadlina&amp;action=edit&amp;redlink=1" TargetMode="External"/><Relationship Id="rId14" Type="http://schemas.openxmlformats.org/officeDocument/2006/relationships/hyperlink" Target="http://cs.wikipedia.org/wiki/Tektonick&#225;_deska" TargetMode="External"/><Relationship Id="rId15" Type="http://schemas.openxmlformats.org/officeDocument/2006/relationships/hyperlink" Target="http://cs.wikipedia.org/w/index.php?title=Eurasijsk&#225;_deska&amp;action=edit&amp;redlink=1" TargetMode="External"/><Relationship Id="rId16" Type="http://schemas.openxmlformats.org/officeDocument/2006/relationships/hyperlink" Target="http://cs.wikipedia.org/w/index.php?title=Amursk&#225;_deska&amp;action=edit&amp;redlink=1" TargetMode="External"/><Relationship Id="rId17" Type="http://schemas.openxmlformats.org/officeDocument/2006/relationships/hyperlink" Target="http://cs.wikipedia.org/wiki/Horsk&#253;_h&#345;bet" TargetMode="External"/><Relationship Id="rId18" Type="http://schemas.openxmlformats.org/officeDocument/2006/relationships/hyperlink" Target="http://cs.wikipedia.org/wiki/Kilometr_&#269;tvere&#269;n&#237;" TargetMode="External"/><Relationship Id="rId19" Type="http://schemas.openxmlformats.org/officeDocument/2006/relationships/hyperlink" Target="http://cs.wikipedia.org/wiki/Metr#Kilometr" TargetMode="External"/><Relationship Id="rId20" Type="http://schemas.openxmlformats.org/officeDocument/2006/relationships/hyperlink" Target="http://cs.wikipedia.org/wiki/Metr" TargetMode="External"/><Relationship Id="rId21" Type="http://schemas.openxmlformats.org/officeDocument/2006/relationships/hyperlink" Target="http://cs.wikipedia.org/wiki/Povod&#237;" TargetMode="External"/><Relationship Id="rId22" Type="http://schemas.openxmlformats.org/officeDocument/2006/relationships/hyperlink" Target="http://cs.wikipedia.org/wiki/Krychlov&#253;_kilometr" TargetMode="External"/><Relationship Id="rId23" Type="http://schemas.openxmlformats.org/officeDocument/2006/relationships/hyperlink" Target="http://cs.wikipedia.org/wiki/Nadmo&#345;sk&#225;_v&#253;&#353;ka" TargetMode="External"/><Relationship Id="rId24" Type="http://schemas.openxmlformats.org/officeDocument/2006/relationships/hyperlink" Target="http://cs.wikipedia.org/wiki/Soubor:-26_swiatoinos.JPG.JPG" TargetMode="External"/><Relationship Id="rId25" Type="http://schemas.openxmlformats.org/officeDocument/2006/relationships/image" Target="../media/image16.jpeg"/><Relationship Id="rId26" Type="http://schemas.openxmlformats.org/officeDocument/2006/relationships/hyperlink" Target="http://cs.wikipedia.org/wiki/Soubor:Olchon1.jpg" TargetMode="External"/><Relationship Id="rId27" Type="http://schemas.openxmlformats.org/officeDocument/2006/relationships/image" Target="../media/image17.jpeg"/><Relationship Id="rId28" Type="http://schemas.openxmlformats.org/officeDocument/2006/relationships/hyperlink" Target="http://cs.wikipedia.org/wiki/Soubor:LakeBaikal.png" TargetMode="External"/><Relationship Id="rId29" Type="http://schemas.openxmlformats.org/officeDocument/2006/relationships/image" Target="../media/image18.png"/><Relationship Id="rId3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v&#283;tsk&#253;_svaz" TargetMode="External"/><Relationship Id="rId3" Type="http://schemas.openxmlformats.org/officeDocument/2006/relationships/hyperlink" Target="http://cs.wikipedia.org/wiki/1991" TargetMode="External"/><Relationship Id="rId4" Type="http://schemas.openxmlformats.org/officeDocument/2006/relationships/hyperlink" Target="http://cs.wikipedia.org/wiki/Rusk&#225;_sov&#283;tsk&#225;_federativn&#237;_socialistick&#225;_republika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Rubl" TargetMode="External"/><Relationship Id="rId3" Type="http://schemas.openxmlformats.org/officeDocument/2006/relationships/hyperlink" Target="http://cs.wikipedia.org/wiki/Sov&#283;tsk&#253;_svaz" TargetMode="External"/><Relationship Id="rId4" Type="http://schemas.openxmlformats.org/officeDocument/2006/relationships/hyperlink" Target="http://cs.wikipedia.org/wiki/1922" TargetMode="External"/><Relationship Id="rId5" Type="http://schemas.openxmlformats.org/officeDocument/2006/relationships/hyperlink" Target="http://cs.wikipedia.org/wiki/1991" TargetMode="External"/><Relationship Id="rId6" Type="http://schemas.openxmlformats.org/officeDocument/2006/relationships/hyperlink" Target="http://cs.wikipedia.org/wiki/Seznam_m&#283;n" TargetMode="External"/><Relationship Id="rId7" Type="http://schemas.openxmlformats.org/officeDocument/2006/relationships/hyperlink" Target="http://cs.wikipedia.org/wiki/Svazov&#225;_republika" TargetMode="External"/><Relationship Id="rId8" Type="http://schemas.openxmlformats.org/officeDocument/2006/relationships/hyperlink" Target="http://cs.wikipedia.org/wiki/St&#345;edn&#237;_Asie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Soubor:Loudspeaker.svg" TargetMode="External"/><Relationship Id="rId3" Type="http://schemas.openxmlformats.org/officeDocument/2006/relationships/hyperlink" Target="http://upload.wikimedia.org/wikipedia/commons/4/4b/Ru-Rossiyskaya_Federatsiya_Rossiya.ogg" TargetMode="External"/><Relationship Id="rId4" Type="http://schemas.openxmlformats.org/officeDocument/2006/relationships/hyperlink" Target="http://upload.wikimedia.org/wikipedia/commons/4/4b/Ru-Rossiyskaya_Federatsiya_Rossiya.ogg" TargetMode="External"/><Relationship Id="rId5" Type="http://schemas.openxmlformats.org/officeDocument/2006/relationships/hyperlink" Target="http://upload.wikimedia.org/wikipedia/commons/4/4b/Ru-Rossiyskaya_Federatsiya_Rossiya.ogg" TargetMode="External"/><Relationship Id="rId6" Type="http://schemas.openxmlformats.org/officeDocument/2006/relationships/hyperlink" Target="http://cs.wikipedia.org/wiki/V&#253;chodn&#237;_Evropa" TargetMode="External"/><Relationship Id="rId7" Type="http://schemas.openxmlformats.org/officeDocument/2006/relationships/hyperlink" Target="http://cs.wikipedia.org/wiki/Evropa" TargetMode="External"/><Relationship Id="rId8" Type="http://schemas.openxmlformats.org/officeDocument/2006/relationships/hyperlink" Target="http://cs.wikipedia.org/wiki/Asie" TargetMode="External"/><Relationship Id="rId9" Type="http://schemas.openxmlformats.org/officeDocument/2006/relationships/hyperlink" Target="http://cs.wikipedia.org/wiki/Soubor:LocationRussia.png" TargetMode="Externa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Zem&#283;" TargetMode="External"/><Relationship Id="rId3" Type="http://schemas.openxmlformats.org/officeDocument/2006/relationships/hyperlink" Target="http://cs.wikipedia.org/wiki/Slune&#269;n&#237;_&#269;as" TargetMode="External"/><Relationship Id="rId4" Type="http://schemas.openxmlformats.org/officeDocument/2006/relationships/hyperlink" Target="http://cs.wikipedia.org/wiki/Poledn&#237;k" TargetMode="External"/><Relationship Id="rId5" Type="http://schemas.openxmlformats.org/officeDocument/2006/relationships/hyperlink" Target="http://cs.wikipedia.org/wiki/Koordinovan&#253;_sv&#283;tov&#253;_&#269;as" TargetMode="External"/><Relationship Id="rId6" Type="http://schemas.openxmlformats.org/officeDocument/2006/relationships/hyperlink" Target="http://cs.wikipedia.org/wiki/Hodina" TargetMode="External"/><Relationship Id="rId7" Type="http://schemas.openxmlformats.org/officeDocument/2006/relationships/hyperlink" Target="http://cs.wikipedia.org/wiki/Nult&#253;_poledn&#237;k" TargetMode="External"/><Relationship Id="rId8" Type="http://schemas.openxmlformats.org/officeDocument/2006/relationships/hyperlink" Target="http://cs.wikipedia.org/wiki/Greenwich" TargetMode="External"/><Relationship Id="rId9" Type="http://schemas.openxmlformats.org/officeDocument/2006/relationships/hyperlink" Target="http://cs.wikipedia.org/wiki/Lond&#253;n" TargetMode="External"/><Relationship Id="rId10" Type="http://schemas.openxmlformats.org/officeDocument/2006/relationships/hyperlink" Target="http://cs.wikipedia.org/wiki/Anglie" TargetMode="Externa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.wikipedia.org/wiki/Ru&#353;tina" TargetMode="External"/><Relationship Id="rId3" Type="http://schemas.openxmlformats.org/officeDocument/2006/relationships/hyperlink" Target="http://cs.wikipedia.org/wiki/Rusko" TargetMode="External"/><Relationship Id="rId4" Type="http://schemas.openxmlformats.org/officeDocument/2006/relationships/hyperlink" Target="http://cs.wikipedia.org/wiki/Evropa" TargetMode="External"/><Relationship Id="rId5" Type="http://schemas.openxmlformats.org/officeDocument/2006/relationships/hyperlink" Target="http://cs.wikipedia.org/wiki/Pa&#345;&#237;&#382;" TargetMode="External"/><Relationship Id="rId6" Type="http://schemas.openxmlformats.org/officeDocument/2006/relationships/hyperlink" Target="http://cs.wikipedia.org/wiki/Lond&#253;n" TargetMode="External"/><Relationship Id="rId7" Type="http://schemas.openxmlformats.org/officeDocument/2006/relationships/hyperlink" Target="http://cs.wikipedia.org/wiki/Vysok&#225;_&#353;kola" TargetMode="External"/><Relationship Id="rId8" Type="http://schemas.openxmlformats.org/officeDocument/2006/relationships/hyperlink" Target="http://cs.wikipedia.org/wiki/Kostel" TargetMode="External"/><Relationship Id="rId9" Type="http://schemas.openxmlformats.org/officeDocument/2006/relationships/hyperlink" Target="http://cs.wikipedia.org/wiki/Divadlo" TargetMode="External"/><Relationship Id="rId10" Type="http://schemas.openxmlformats.org/officeDocument/2006/relationships/hyperlink" Target="http://cs.wikipedia.org/wiki/Muzeum" TargetMode="External"/><Relationship Id="rId11" Type="http://schemas.openxmlformats.org/officeDocument/2006/relationships/hyperlink" Target="http://cs.wikipedia.org/w/index.php?title=Galerie_%28expozice%29&amp;action=edit&amp;redlink=1" TargetMode="External"/><Relationship Id="rId12" Type="http://schemas.openxmlformats.org/officeDocument/2006/relationships/hyperlink" Target="http://cs.wikipedia.org/wiki/Ministerstvo" TargetMode="External"/><Relationship Id="rId13" Type="http://schemas.openxmlformats.org/officeDocument/2006/relationships/hyperlink" Target="http://cs.wikipedia.org/wiki/Pravoslav&#237;" TargetMode="External"/><Relationship Id="rId14" Type="http://schemas.openxmlformats.org/officeDocument/2006/relationships/hyperlink" Target="http://cs.wikipedia.org/wiki/Kreml" TargetMode="External"/><Relationship Id="rId15" Type="http://schemas.openxmlformats.org/officeDocument/2006/relationships/hyperlink" Target="http://cs.wikipedia.org/wiki/Rud&#233;_n&#225;m&#283;st&#237;" TargetMode="External"/><Relationship Id="rId16" Type="http://schemas.openxmlformats.org/officeDocument/2006/relationships/hyperlink" Target="http://cs.wikipedia.org/wiki/1990" TargetMode="External"/><Relationship Id="rId17" Type="http://schemas.openxmlformats.org/officeDocument/2006/relationships/hyperlink" Target="http://cs.wikipedia.org/wiki/UNESCO" TargetMode="External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68360" y="981000"/>
            <a:ext cx="45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uská federace</a:t>
            </a:r>
            <a:endParaRPr b="0" i="1" lang="en-US" sz="1800" spc="1" strike="noStrike">
              <a:ln w="9360">
                <a:solidFill>
                  <a:srgbClr val="00c6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781600" cy="39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lší významná měs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oskva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0 425 0752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etrohrad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4 580 6203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Novosibirsk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397 0154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Jekatěrinburg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308 4415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Nižnij Novgorod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283 5536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Samara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143 3467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Omsk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138 8228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Kazaň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112 6739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Čeljabinsk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092 9581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Rostov na Donu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054 865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zapomenutelné památky Rusk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4437000"/>
            <a:ext cx="2447640" cy="1946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3716280"/>
            <a:ext cx="209556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2373480" cy="295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411280" y="1844640"/>
            <a:ext cx="3170520" cy="2009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5157720"/>
            <a:ext cx="2303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jvyšší hora Rus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Tahoma"/>
              </a:rPr>
              <a:t>Elbrus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usky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900" spc="-1" strike="noStrike">
                <a:solidFill>
                  <a:srgbClr val="ffffff"/>
                </a:solidFill>
                <a:latin typeface="Tahoma"/>
              </a:rPr>
              <a:t>Эльбрус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nglicky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900" spc="-1" strike="noStrike">
                <a:solidFill>
                  <a:srgbClr val="ffffff"/>
                </a:solidFill>
                <a:latin typeface="Tahoma"/>
              </a:rPr>
              <a:t>Mount Elbrus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) je s výškou 5642 metrů nad mořem nejvyšší horou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Kavkazu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Ruska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. Část zeměpisců považuje Kavkaz za hranici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Evropy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a tím pádem i Elbrus za její nejvyšší horu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Elbrus je neaktivní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sopkou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s dvěma vrcholy (západní – 5642 m a východní 5621 m). Vzdálenost obou vrcholů je 1500 metrů. Svahy sopky jsou pokryté ledovci o celkové ploše 138 km².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Sněžná čára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je na Elbrusu ve výšce 3700 až 4000 m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Fotografie Elbrusu z konce 19. století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692360" y="3645000"/>
            <a:ext cx="51847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írodní krásy-Bajk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Bajkal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usky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Байкал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) je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jezero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v jižní části Východní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Sibiře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v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Rusku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Obvyklé vysvětlení původu jména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Bajkal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je z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turkického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Баикуль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bohaté na ryby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Není však vědecky doložené. Je možné, že se jedná o slovo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mongolského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původu. Rozkládá se v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Burjatské republice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a v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Irkutské oblasti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Je to největší jezero na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Sibiři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a po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Kaspickém moři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druhé největší jezero v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Rusku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Je nejhlubší na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Zemi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Bajkal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je tvořen hlubokou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příkopovou propadlinou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na rozhraní dvou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tektonických desek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eurasijské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amurské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), které se každým rokem rozestupují zhruba o 2 cm. Jde o nejstarší jezero na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Zemi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, jeho stáří se odhaduje na 25 až 30 milionů let. Je obklopený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horskými hřbety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vysokými až 2 000 m nad jeho hladinou. Má rozlohu 31 500 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km²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Je 636 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km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dlouhé a šířka se pohybuje v rozmezí od 27 do 79,4 km. Průměrnou hloubku má 730 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m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a maximální 1637 m (ve střední části, kotliny). Rozloha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povodí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je 557 000 km². Celkový objem vody je 23 000 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km³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. V </a:t>
            </a:r>
            <a:r>
              <a:rPr b="0" i="1" lang="cs-CZ" sz="1700" spc="-1" strike="noStrike">
                <a:solidFill>
                  <a:srgbClr val="ffffff"/>
                </a:solidFill>
                <a:latin typeface="Tahoma"/>
              </a:rPr>
              <a:t>Bajkalu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je soustředěna 1/5 světových zásob povrchové sladké vody. Průměrná </a:t>
            </a:r>
            <a:r>
              <a:rPr b="0" lang="cs-CZ" sz="17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nadmořská výška</a:t>
            </a:r>
            <a:r>
              <a:rPr b="0" lang="cs-CZ" sz="1700" spc="-1" strike="noStrike">
                <a:solidFill>
                  <a:srgbClr val="ffffff"/>
                </a:solidFill>
                <a:latin typeface="Tahoma"/>
              </a:rPr>
              <a:t> hladiny jezera je 456 m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Pobřeží jezera Bajkal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79280" y="4941720"/>
            <a:ext cx="262728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Ostrov Oľchon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3059280" y="4941720"/>
            <a:ext cx="2663640" cy="172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Bajkal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5940360" y="4941720"/>
            <a:ext cx="266544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děkován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Vaši pozornost a těšíme se na další setkání s Vám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82436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ři: Filip Libánsk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áš Cimbur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áš Preis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máš Lomnický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závislá Ruská federace vznikla při rozpad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Sovětského svaz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a konci rok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9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 její území odpovídá bývalé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RSFSR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uská sovětská federativní socialistická republik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 První krok k nezávislosti se objevil v roce 1991, když byl zřízen úřad prezidenta Ruska jako protiváha úřad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zidenta SSS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řevažující část populace a průmyslové produkce bývalého Sovětského svazu je soustředěna právě v Ruské federaci. S většinou nástupnických postsovětských států utvořilo Rusko Společenství nezávislých stát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znik Ruské feder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átní symboly Rus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átní vlajk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ílá symbolizuje mír, čistotu, neposkvrněnost, dokonalost a svobodu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odrá představuje stálost, víru, věrnost a Bohorodičku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Červená je symbolem energie, síly, krve prolité za vlast a absolutistickou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vládu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2641320" cy="1368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15920" y="4581360"/>
            <a:ext cx="254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átní znak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1441440" cy="1728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5950080"/>
            <a:ext cx="77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doba státního znaku Ruska pochází z Ruské říše a v Rusku je používán od rozpadu Sovětského svazu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Státní hymna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oyuz nerushimiy respublik svobodnykh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plotila naveki velikaya Rus'!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Da zdravstvuet sozdanniy voley narodov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elikiy, moguchiy Sovetskiy Soyuz!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lavsya Otechestvo nashe svobodnoye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Druzhbi narodov nadyozhniy oplot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artiya Lenina, sila narodnaya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Nas k torzhestvu kommunizma vedyot!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kvoz tuchi siyalo nam solntse svobodi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I Lenin velikiy nam put' ozaril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Na pravoe delo on podnyal narodi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Na trud i na podvigi nas vdokhnovIl!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lavsya Otechestvo ..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 pobede velikikh idey kommunizma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Mi vidim gryadutshee nashey strani,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I krasnomu znameni slavnoy otchizni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Mi budem vsegda bezzavetno verni!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lavsya Otechestvo ..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ě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ffffff"/>
                </a:solidFill>
                <a:latin typeface="Comic Sans MS"/>
              </a:rPr>
              <a:t>Rub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Sovětský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ubl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byl zákonným platidlem zaniklého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Sovětského svazu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Byl platný v období od roku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22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do konce roku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91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ISO 4217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kód rublu byl </a:t>
            </a: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SUR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Jeden rubl se sestával ze 100 kopějek. Každý oficiální jazyk celého státu (bylo jich 15) používal pro jednotnou měnu vlastní název, v některých případech zcela odlišných od ruského názvu. Všechny bankovky měly název měny vytisknutý v jazycích všech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svazových republik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. Současné názvy nezávislých měn některých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středoasijských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států jsou místním názvem pro tehdejší rub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484360" y="4076640"/>
            <a:ext cx="4319640" cy="23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oha Rusk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usko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(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Россия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)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oficiálním názvem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uská federa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Российская Федерация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), je s rozlohou 17 075 400 km² největší zemí na světě. Zahrnuje značnou část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východní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Evropy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a téměř celou severní </a:t>
            </a:r>
            <a:r>
              <a:rPr b="0" lang="cs-CZ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Asii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. S počtem 142 milionů obyvatel je Ruská federace osmá nejlidnatější země na světě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42920" y="3789360"/>
            <a:ext cx="468000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Časová pásma v Rusk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Časové pásmo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je ta část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Země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která používá stejný standardní čas. Původně používali lidé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sluneční čas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který má ovšem tu nevýhodu, že se liší od místa k místu. S rozvojem dopravy a komunikace byla tato nevýhoda stále výraznější, takže se postupem času přešlo na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pásmový čas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kdy celá oblast Země, zhruba 15 ° kolem daného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poledníku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používá stejný čas, který je určen svým posunem od UTC,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koordinovaného světového času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(většinou je posun určen celistvým počtem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odin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jsou však i výjimky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ákladním časovým pásmem je pásmo, ve kterém platí UTC, a které se rozkládá kolem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nultého poledníku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který prochází Královskou observatoří v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Greenwichi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Londýn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Anglie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. Z toho důvodu se pásmovému času odpovídajícímu UTC někdy říká Greenwichský čas (GMT, Greenwich Mean Time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1476360" y="4245120"/>
            <a:ext cx="640872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skv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ffff"/>
                </a:solidFill>
                <a:latin typeface="Tahoma"/>
              </a:rPr>
              <a:t>Moskva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rusky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1900" spc="-1" strike="noStrike">
                <a:solidFill>
                  <a:srgbClr val="ffffff"/>
                </a:solidFill>
                <a:latin typeface="Tahoma"/>
              </a:rPr>
              <a:t>Москва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je hlavním městem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Ruska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s celkem asi</a:t>
            </a:r>
            <a:br>
              <a:rPr sz="1900"/>
            </a:b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10 450 000 obyvateli (2006), žijícími na ploše o rozloze 1 085 km²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Je tak jedním z největších měst v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Evropě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spolu s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aříží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či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Londýnem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. Je politickým, hospodářským a kulturním centrem země s asi 60 univerzitami a množstvím dalších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vysokých škol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kostelů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divadel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muzeí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galerií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. Sídlí zde všechna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ministerstva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a státní úřady, též také i významné firmy. Je také sídlem patriarchy ruské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pravoslavné církve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Historické centrum je staré stovky let, v jeho středu se rozkládá trojúhelníkový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Kreml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, prohlášený spolu s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Rudým náměstím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v roce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90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 za světové kulturní dědictví </a:t>
            </a:r>
            <a:r>
              <a:rPr b="0" lang="cs-CZ" sz="19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UNESCO</a:t>
            </a:r>
            <a:r>
              <a:rPr b="0" lang="cs-CZ" sz="19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5796000" y="4797360"/>
            <a:ext cx="2900160" cy="174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611280" y="4797360"/>
            <a:ext cx="2881080" cy="17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10:36Z</dcterms:created>
  <dc:creator>Filip</dc:creator>
  <dc:description/>
  <dc:language>en-US</dc:language>
  <cp:lastModifiedBy>René</cp:lastModifiedBy>
  <dcterms:modified xsi:type="dcterms:W3CDTF">2008-04-27T18:50:50Z</dcterms:modified>
  <cp:revision>9</cp:revision>
  <dc:subject>Zeměpis</dc:subject>
  <dc:title>Snímek 1</dc:title>
</cp:coreProperties>
</file>