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0B7-FAD8-46C4-8F33-9926050F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7CD-6FDA-439D-8EB2-55C72E0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E80-356C-4376-B74C-F25CA3F0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9FE-8E17-4B4C-9210-A41B67FA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D60-F5CF-47D6-B7B6-E42C67EB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613-690C-4691-B6B3-AC480208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8F2-8AF9-434B-83A5-2E42CFB5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BEB-FFB7-40A2-AE55-12772571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EF7-3628-4B70-A12B-6C9186D9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E3C-A6CC-4CBC-BCF8-4CD050F7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671-0A97-46D7-BEF0-3A1F90FD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EE3-FF79-4833-B577-30B29E2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62DD67-E9C1-4DE2-8947-47AD54339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4008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děv slavnostní,carský i oděv duchovenstva vychází z byzantských prvk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ěžké zlatem protkávané tkan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uniky, diadé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1705320" cy="214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1544760" cy="1944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5280" y="4581360"/>
            <a:ext cx="15433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děv ruského pravoslavného kněz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27400" y="2997360"/>
            <a:ext cx="26877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hlavu kryla čapka obšitá kožešinovou obrubou - odznak c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3429000"/>
            <a:ext cx="1833480" cy="2951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2660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ypická část oděvu kněžen-pokrývka hlavy „kiki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03200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nejrozšířenější ruský oděv byl kabát zvaný kaftan - pro majetné z atlasu nebo brokátu, pro kupce ze sukna a pro řemeslníky z hrubých tka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46586" b="0"/>
          <a:stretch/>
        </p:blipFill>
        <p:spPr>
          <a:xfrm>
            <a:off x="324000" y="1916280"/>
            <a:ext cx="2253960" cy="4176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reformy Petra Velikého(1672-1725) - nařízení nosit evropské odě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87640" y="2781360"/>
            <a:ext cx="2857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uské odě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arevna Kateřina Veliká (1729-1796) v oděvu již  evropského stylu</a:t>
            </a:r>
            <a:r>
              <a:rPr b="0" lang="en-GB" sz="3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05000" y="2924280"/>
            <a:ext cx="293400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05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de by Vojtěch Bu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hrova</dc:creator>
  <dc:description/>
  <dc:language>en-US</dc:language>
  <cp:lastModifiedBy>Buhrova</cp:lastModifiedBy>
  <cp:revision>0</cp:revision>
  <dc:subject/>
  <dc:title>Ruské oděvy</dc:title>
</cp:coreProperties>
</file>