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-360" y="-7405920"/>
            <a:ext cx="360" cy="162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AC128-4196-4E4C-A357-F25B231F32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0C87D-A420-41BF-A8FF-29F7F88833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E7CF3-B1DA-4A8D-A0C3-6F1F24DF5A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28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136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28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136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686E4-911C-4787-B671-CAFA81E3A3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F746F-85B9-409F-982C-C548CF12D25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2C1E0-13F5-4EF4-B64D-CAD3C37B66B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39ADF-64A1-48F8-85C8-400204B8C73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74D85-9B72-4925-8226-09579E04C4A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1574D-7B23-487C-9980-F8B6BB93FDE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-3600"/>
            <a:ext cx="8228160" cy="636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607D7-8F7B-4598-A8F9-A5C19C29C5A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ACD4B-0DD9-40E8-A21E-900FE19AAF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EFCF8-96B5-4514-9C5E-6458472D77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79723-0370-41DB-9857-129E5740BB9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5096F-A899-43C6-BD95-C364BB0DB60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31438-087F-413A-A768-6450622FB6D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F7A44-BBA8-4D79-B679-BB733183DCD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28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136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28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136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1D2AD-1B43-49F7-BB36-7F8E1DABE9F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90E0-E885-4361-A9E2-9830A0D655B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02A3-92DF-4394-A9AB-ED32708CF53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6A79-9A7D-44E1-A192-D66387A1E35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9916-DB6C-4532-9B4D-4D44A3CD45F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2F20-37E5-429A-9637-ED69F86079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5C8FD-0065-4ED0-817D-E9397C28C20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-3600"/>
            <a:ext cx="8228160" cy="636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98FA-8396-4F31-B451-4B4D7D25D4F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509A-6411-4CD5-A0B2-5BF6AD34D4B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B622-313B-4D1A-A2EB-0B8F016D60F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E98A-C9B5-4A78-90DA-6B7DA3B3108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29AA-CFA2-467B-B548-2538818B891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CF30-5A6A-4962-A476-8569C11D1EC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28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136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28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136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3522-0817-4235-B1B8-129BA38E4E4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C2E16B-1BA5-457F-91DC-D88BCC39DD7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25231E-7CE4-449D-B68C-CED911DA190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39AF9A-B107-4F0C-961C-AB67C683C2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BB952-57B6-4E76-BAB3-A3E0F9F2228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A4BAAA-1A22-4133-ABDC-EB52EE11B1C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81EE20-0CFF-4F22-BBEC-B251697BEFE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-3600"/>
            <a:ext cx="8228160" cy="636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795CE9-21F4-4BFF-BDFB-7D2BF99A42F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7FB00C-804F-47FE-B47B-A3BD040F4F5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B93CD6-1CAB-4E1B-B009-FB5D1BA7A20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E246C0-AA89-4E90-B214-869A542969D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7CCCF6-332D-40CF-902E-47FE1643AC2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087932-0854-4C5B-9E0B-143E717259F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928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2136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20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928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2136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38D11F-D38D-4B2D-B6FC-08A56416651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24298C-4C69-4442-812E-5C0F698AC1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94CA3-624E-4097-9E3D-40BF2EA87A3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CC5B7B-266D-4B44-AE1A-DF1B1DD7090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377CCB-AD6A-400E-AC80-857BEE49D1D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F69BF3-0902-4B87-8274-DD34ABBF029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2825A2-850C-460F-9ADE-BF08D1D0EA5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-3600"/>
            <a:ext cx="8228160" cy="636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BACADB-E5F9-437C-8358-B44D0DC3FE8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D156A3-044E-4CAC-80A6-D451C37B6A9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413A67-E6BA-4147-9948-C2ED77F6C72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3C6A74-0B8B-49CE-A0F9-70EE4F7DD16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BCD672-F448-45D6-9CC7-BD3EFBBDBE8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A3B231-85DA-4326-B04D-7F83DF84AF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-3600"/>
            <a:ext cx="8228160" cy="636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D192B-4591-401C-B4A9-17EDBE2AD43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28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136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28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136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D8E4B4-BBC9-479B-9029-64DA3694450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1FD39-89A5-4A9D-81C0-06A5771DB1B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337B2-815F-4363-B9EA-300DC6A3B24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968FA-A16D-4FF5-BCDF-6E8234B30B6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63F12-4A95-45E4-B139-26A44D8E4C0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8047F-0B17-45FF-A2C2-6B8C9A8B1E5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57200" y="-3600"/>
            <a:ext cx="8228160" cy="636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B9887-7EBA-4AAC-8CC1-2AEB4D7678D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F783B-3871-434D-9A61-D7986859E91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770BF-A5E7-496E-8D78-5E56799247F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6BE5F-8D5C-4576-8D02-BF90CAD9D8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5B40A-0813-46FF-A9EB-089783D3A8B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E0107-03A1-4C53-956E-853E5E14789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CB8FA-1258-4F89-A782-D7E50AF31F7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928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2136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720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928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2136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F061C-8D6C-4528-A758-3C46D669B8F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A0FC47-B0A8-4ECA-B707-963E90E122A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241FBC-0BDC-48A5-A84B-A8C424C5853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CFB15C-7481-4446-9154-60D7A190677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62C668-ADB8-4CD8-985C-19D084A4FDF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301FFA-266D-4237-8AFB-557206F37DF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-3600"/>
            <a:ext cx="8228160" cy="636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9D762A-D513-408D-ABFB-01D7D852DAF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2211D6-8845-48D3-A6D1-098FC19895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9F9BE-9746-430E-883A-A71F5F6E24A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3F419F-5E50-4154-8E33-E03A2F7CEEE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7DF0AD-7A70-40CC-B807-E1F33B23820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1DC79B-DF78-4D0C-9D6E-A1B77397981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368B4E-58F0-4831-8F1B-9E7B9F61F9C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28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136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28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136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7AAE19-2556-431B-981D-E31FEDE13F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229AB-94D0-4B55-BAFC-A8E4322626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6480" y="20520"/>
            <a:ext cx="9142560" cy="6856560"/>
            <a:chOff x="-6480" y="2052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-6480" y="4896000"/>
              <a:ext cx="914256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6480" y="20520"/>
              <a:ext cx="9142560" cy="4876920"/>
            </a:xfrm>
            <a:prstGeom prst="pie">
              <a:avLst/>
            </a:pr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-1440" y="6033960"/>
            <a:ext cx="7842240" cy="849600"/>
            <a:chOff x="-1440" y="6033960"/>
            <a:chExt cx="7842240" cy="849600"/>
          </a:xfrm>
        </p:grpSpPr>
        <p:sp>
          <p:nvSpPr>
            <p:cNvPr id="5" name=""/>
            <p:cNvSpPr/>
            <p:nvPr/>
          </p:nvSpPr>
          <p:spPr>
            <a:xfrm>
              <a:off x="2360520" y="6033960"/>
              <a:ext cx="5143680" cy="849600"/>
            </a:xfrm>
            <a:prstGeom prst="pie">
              <a:avLst/>
            </a:pr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4880" y="6033960"/>
              <a:ext cx="3895920" cy="847800"/>
              <a:chOff x="3944880" y="6033960"/>
              <a:chExt cx="3895920" cy="847800"/>
            </a:xfrm>
          </p:grpSpPr>
          <p:sp>
            <p:nvSpPr>
              <p:cNvPr id="7" name=""/>
              <p:cNvSpPr/>
              <p:nvPr/>
            </p:nvSpPr>
            <p:spPr>
              <a:xfrm>
                <a:off x="6264360" y="6045120"/>
                <a:ext cx="1576440" cy="83664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8000" y="6033960"/>
                <a:ext cx="295560" cy="62568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8520" y="6194520"/>
                <a:ext cx="600120" cy="4284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6400" y="615168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4880" y="61405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-1440" y="6033960"/>
              <a:ext cx="6311880" cy="849600"/>
            </a:xfrm>
            <a:prstGeom prst="pie">
              <a:avLst/>
            </a:pr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7800"/>
            <a:chOff x="627120" y="6021360"/>
            <a:chExt cx="5684760" cy="84780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04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056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447560"/>
            <a:ext cx="8226360" cy="17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"/>
          <p:cNvSpPr/>
          <p:nvPr/>
        </p:nvSpPr>
        <p:spPr>
          <a:xfrm>
            <a:off x="457200" y="6243480"/>
            <a:ext cx="2131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ldNum" idx="1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1BE0A2-6225-4166-B9E2-26FE86F18A7E}" type="slidenum">
              <a:rPr b="0" lang="en-GB" sz="12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>
            <a:off x="3124080" y="6243480"/>
            <a:ext cx="2894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lnSpc>
                <a:spcPct val="102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8280" indent="-273240">
              <a:lnSpc>
                <a:spcPct val="102000"/>
              </a:lnSpc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3320" indent="-228600">
              <a:lnSpc>
                <a:spcPct val="102000"/>
              </a:lnSpc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8000" indent="-228600">
              <a:lnSpc>
                <a:spcPct val="102000"/>
              </a:lnSpc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2680" indent="-228600">
              <a:lnSpc>
                <a:spcPct val="102000"/>
              </a:lnSpc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2680" indent="-228600">
              <a:lnSpc>
                <a:spcPct val="102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2680" indent="-228600">
              <a:lnSpc>
                <a:spcPct val="102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"/>
          <p:cNvSpPr/>
          <p:nvPr/>
        </p:nvSpPr>
        <p:spPr>
          <a:xfrm>
            <a:off x="5791320" y="6165720"/>
            <a:ext cx="2590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133720" y="6165720"/>
            <a:ext cx="3581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ldNum" idx="2"/>
          </p:nvPr>
        </p:nvSpPr>
        <p:spPr>
          <a:xfrm>
            <a:off x="8410320" y="6181560"/>
            <a:ext cx="6080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600" spc="-1" strike="noStrike">
                <a:solidFill>
                  <a:srgbClr val="fefac9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D548C7F-8607-41C6-9A75-6DCCE66C2C9E}" type="slidenum">
              <a:rPr b="0" lang="en-GB" sz="1600" spc="-1" strike="noStrike">
                <a:solidFill>
                  <a:srgbClr val="fefac9"/>
                </a:solidFill>
                <a:latin typeface="Times New Roman"/>
                <a:ea typeface="Lucida Sans Unicod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152735" dir="270000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lnSpc>
                <a:spcPct val="102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8280" indent="-273240">
              <a:lnSpc>
                <a:spcPct val="102000"/>
              </a:lnSpc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3320" indent="-228600">
              <a:lnSpc>
                <a:spcPct val="102000"/>
              </a:lnSpc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8000" indent="-228600">
              <a:lnSpc>
                <a:spcPct val="102000"/>
              </a:lnSpc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2680" indent="-228600">
              <a:lnSpc>
                <a:spcPct val="102000"/>
              </a:lnSpc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2680" indent="-228600">
              <a:lnSpc>
                <a:spcPct val="102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2680" indent="-228600">
              <a:lnSpc>
                <a:spcPct val="102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6" name=""/>
          <p:cNvSpPr/>
          <p:nvPr/>
        </p:nvSpPr>
        <p:spPr>
          <a:xfrm>
            <a:off x="5791320" y="6165720"/>
            <a:ext cx="2590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80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600" spc="-1" strike="noStrike">
                <a:solidFill>
                  <a:srgbClr val="fefac9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40990E5-2F71-4455-96C6-1A2DB2463FE6}" type="slidenum">
              <a:rPr b="0" lang="en-GB" sz="1600" spc="-1" strike="noStrike">
                <a:solidFill>
                  <a:srgbClr val="fefac9"/>
                </a:solidFill>
                <a:latin typeface="Times New Roman"/>
                <a:ea typeface="Lucida Sans Unicod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6165720"/>
            <a:ext cx="3581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lnSpc>
                <a:spcPct val="102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8280" indent="-273240">
              <a:lnSpc>
                <a:spcPct val="102000"/>
              </a:lnSpc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3320" indent="-228600">
              <a:lnSpc>
                <a:spcPct val="102000"/>
              </a:lnSpc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8000" indent="-228600">
              <a:lnSpc>
                <a:spcPct val="102000"/>
              </a:lnSpc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2680" indent="-228600">
              <a:lnSpc>
                <a:spcPct val="102000"/>
              </a:lnSpc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2680" indent="-228600">
              <a:lnSpc>
                <a:spcPct val="102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2680" indent="-228600">
              <a:lnSpc>
                <a:spcPct val="102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"/>
          <p:cNvSpPr/>
          <p:nvPr/>
        </p:nvSpPr>
        <p:spPr>
          <a:xfrm>
            <a:off x="5791320" y="6165720"/>
            <a:ext cx="2590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33720" y="6165720"/>
            <a:ext cx="3581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sldNum" idx="4"/>
          </p:nvPr>
        </p:nvSpPr>
        <p:spPr>
          <a:xfrm>
            <a:off x="8410320" y="6181560"/>
            <a:ext cx="6080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600" spc="-1" strike="noStrike">
                <a:solidFill>
                  <a:srgbClr val="fefac9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45F8A21-2760-44AC-875F-BD03580466EB}" type="slidenum">
              <a:rPr b="0" lang="en-GB" sz="1600" spc="-1" strike="noStrike">
                <a:solidFill>
                  <a:srgbClr val="fefac9"/>
                </a:solidFill>
                <a:latin typeface="Times New Roman"/>
                <a:ea typeface="Lucida Sans Unicod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lnSpc>
                <a:spcPct val="102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8280" indent="-273240">
              <a:lnSpc>
                <a:spcPct val="102000"/>
              </a:lnSpc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3320" indent="-228600">
              <a:lnSpc>
                <a:spcPct val="102000"/>
              </a:lnSpc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8000" indent="-228600">
              <a:lnSpc>
                <a:spcPct val="102000"/>
              </a:lnSpc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2680" indent="-228600">
              <a:lnSpc>
                <a:spcPct val="102000"/>
              </a:lnSpc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2680" indent="-228600">
              <a:lnSpc>
                <a:spcPct val="102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2680" indent="-228600">
              <a:lnSpc>
                <a:spcPct val="102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80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600" spc="-1" strike="noStrike">
                <a:solidFill>
                  <a:srgbClr val="fefac9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F77212E-387B-4CE0-96A5-43FCCB512E39}" type="slidenum">
              <a:rPr b="0" lang="en-GB" sz="1600" spc="-1" strike="noStrike">
                <a:solidFill>
                  <a:srgbClr val="fefac9"/>
                </a:solidFill>
                <a:latin typeface="Times New Roman"/>
                <a:ea typeface="Lucida Sans Unicod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6165720"/>
            <a:ext cx="3581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791320" y="6165720"/>
            <a:ext cx="2590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lnSpc>
                <a:spcPct val="102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8280" indent="-273240">
              <a:lnSpc>
                <a:spcPct val="102000"/>
              </a:lnSpc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3320" indent="-228600">
              <a:lnSpc>
                <a:spcPct val="102000"/>
              </a:lnSpc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8000" indent="-228600">
              <a:lnSpc>
                <a:spcPct val="102000"/>
              </a:lnSpc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2680" indent="-228600">
              <a:lnSpc>
                <a:spcPct val="102000"/>
              </a:lnSpc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2680" indent="-228600">
              <a:lnSpc>
                <a:spcPct val="102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2680" indent="-228600">
              <a:lnSpc>
                <a:spcPct val="102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2" name=""/>
          <p:cNvSpPr/>
          <p:nvPr/>
        </p:nvSpPr>
        <p:spPr>
          <a:xfrm>
            <a:off x="5791320" y="6165720"/>
            <a:ext cx="2590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sldNum" idx="6"/>
          </p:nvPr>
        </p:nvSpPr>
        <p:spPr>
          <a:xfrm>
            <a:off x="8410320" y="6181560"/>
            <a:ext cx="6080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600" spc="-1" strike="noStrike">
                <a:solidFill>
                  <a:srgbClr val="fefac9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57F0943-EF42-4182-AFAC-D30DCF3DE99C}" type="slidenum">
              <a:rPr b="0" lang="en-GB" sz="1600" spc="-1" strike="noStrike">
                <a:solidFill>
                  <a:srgbClr val="fefac9"/>
                </a:solidFill>
                <a:latin typeface="Times New Roman"/>
                <a:ea typeface="Lucida Sans Unicod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133720" y="6165720"/>
            <a:ext cx="3581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lnSpc>
                <a:spcPct val="102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8280" indent="-273240">
              <a:lnSpc>
                <a:spcPct val="102000"/>
              </a:lnSpc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3320" indent="-228600">
              <a:lnSpc>
                <a:spcPct val="102000"/>
              </a:lnSpc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8000" indent="-228600">
              <a:lnSpc>
                <a:spcPct val="102000"/>
              </a:lnSpc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2680" indent="-228600">
              <a:lnSpc>
                <a:spcPct val="102000"/>
              </a:lnSpc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2680" indent="-228600">
              <a:lnSpc>
                <a:spcPct val="102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2680" indent="-228600">
              <a:lnSpc>
                <a:spcPct val="102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3" name=""/>
          <p:cNvSpPr/>
          <p:nvPr/>
        </p:nvSpPr>
        <p:spPr>
          <a:xfrm>
            <a:off x="5791320" y="6165720"/>
            <a:ext cx="2590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sldNum" idx="7"/>
          </p:nvPr>
        </p:nvSpPr>
        <p:spPr>
          <a:xfrm>
            <a:off x="8410320" y="6181560"/>
            <a:ext cx="6080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600" spc="-1" strike="noStrike">
                <a:solidFill>
                  <a:srgbClr val="fefac9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B1D7683-DF4E-418D-A5E1-0E1375989BC2}" type="slidenum">
              <a:rPr b="0" lang="en-GB" sz="1600" spc="-1" strike="noStrike">
                <a:solidFill>
                  <a:srgbClr val="fefac9"/>
                </a:solidFill>
                <a:latin typeface="Times New Roman"/>
                <a:ea typeface="Lucida Sans Unicod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133720" y="6165720"/>
            <a:ext cx="3581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hyperlink" Target="http://www.edekor.cz/img/12/1484.jpg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hyperlink" Target="http://www.obrazky.cz/detail?id=eJx1zMFuwiAAANA7/4E3oUCpxaQxVWMWlyyzjfFoELBgJHaljo2v14tH7y9v8VNpuMqhWGoJaeYH%0AuGKwJmlydtfRDBWZhArYceznGMcYkbQyRHNCKmHnO5plDGuj5dEPMqFL372xT0gx4xzZ0QNCc0BY%0ACWYv7LzsTEC9U8HIQVmkbh67sChdSqK9Tzfmo4lF/fm1XX7vN39N2%2BksX9vp/65t6nQ8lL97QAh/%0AxqXgnM8KSohQgp1k8QDZ20Tc%0A" TargetMode="External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hyperlink" Target="http://www.impuls.cz/data/photo/26530.jpg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hyperlink" Target="http://www.museumonline.at/1999/schools/classic/sternberk/kalen2.jpg" TargetMode="External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 rot="19920000">
            <a:off x="707760" y="1833120"/>
            <a:ext cx="7380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6600" spc="-1" strike="noStrike">
                <a:solidFill>
                  <a:srgbClr val="ffffff"/>
                </a:solidFill>
                <a:latin typeface="Freeform 721 Blk AT"/>
              </a:rPr>
              <a:t>Ruské pravoslavné Vánoce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90000"/>
              </a:lnSpc>
              <a:spcBef>
                <a:spcPts val="451"/>
              </a:spcBef>
              <a:buClr>
                <a:srgbClr val="f3a447"/>
              </a:buClr>
              <a:buSzPct val="85000"/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reeform 721 Blk AT"/>
                <a:ea typeface="Lucida Sans Unicode"/>
              </a:rPr>
              <a:t>Na Rusi se objevily  již po příchodu křesťanství v 10.stolet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451"/>
              </a:spcBef>
              <a:buClr>
                <a:srgbClr val="f3a447"/>
              </a:buClr>
              <a:buSzPct val="85000"/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reeform 721 Blk AT"/>
                <a:ea typeface="Lucida Sans Unicode"/>
              </a:rPr>
              <a:t>Několik set let trvalo než se prosadi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451"/>
              </a:spcBef>
              <a:buClr>
                <a:srgbClr val="f3a447"/>
              </a:buClr>
              <a:buSzPct val="85000"/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reeform 721 Blk AT"/>
                <a:ea typeface="Lucida Sans Unicode"/>
              </a:rPr>
              <a:t>Vítězstvím těchto svátků byla reforma Petra 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451"/>
              </a:spcBef>
              <a:buClr>
                <a:srgbClr val="f3a447"/>
              </a:buClr>
              <a:buSzPct val="85000"/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reeform 721 Blk AT"/>
                <a:ea typeface="Lucida Sans Unicode"/>
              </a:rPr>
              <a:t>Připadají na 6.a 7. led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451"/>
              </a:spcBef>
              <a:buClr>
                <a:srgbClr val="f3a447"/>
              </a:buClr>
              <a:buSzPct val="85000"/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reeform 721 Blk AT"/>
                <a:ea typeface="Lucida Sans Unicode"/>
              </a:rPr>
              <a:t>Štedrý den je obyčejným pracovním 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451"/>
              </a:spcBef>
              <a:buClr>
                <a:srgbClr val="f3a447"/>
              </a:buClr>
              <a:buSzPct val="85000"/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reeform 721 Blk AT"/>
                <a:ea typeface="Lucida Sans Unicode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Freeform 721 Blk AT"/>
                <a:ea typeface="Lucida Sans Unicode"/>
              </a:rPr>
              <a:t>Byly spojovány  s mnoha zvyky a tradicem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451"/>
              </a:spcBef>
              <a:buClr>
                <a:srgbClr val="f3a447"/>
              </a:buClr>
              <a:buSzPct val="85000"/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reeform 721 Blk AT"/>
                <a:ea typeface="Lucida Sans Unicode"/>
              </a:rPr>
              <a:t>Které po zákazu Sovětským svazem upadají v zapomně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237960" y="225360"/>
            <a:ext cx="8455320" cy="1154160"/>
            <a:chOff x="237960" y="225360"/>
            <a:chExt cx="8455320" cy="1154160"/>
          </a:xfrm>
        </p:grpSpPr>
        <p:pic>
          <p:nvPicPr>
            <p:cNvPr id="319" name="" descr=""/>
            <p:cNvPicPr/>
            <p:nvPr/>
          </p:nvPicPr>
          <p:blipFill>
            <a:blip r:embed="rId2"/>
            <a:stretch/>
          </p:blipFill>
          <p:spPr>
            <a:xfrm>
              <a:off x="237960" y="225360"/>
              <a:ext cx="8455320" cy="11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237960" y="225360"/>
              <a:ext cx="8455320" cy="11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5929200" y="4000680"/>
            <a:ext cx="217188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90000"/>
              </a:lnSpc>
              <a:spcBef>
                <a:spcPts val="451"/>
              </a:spcBef>
              <a:buClr>
                <a:srgbClr val="f3a447"/>
              </a:buClr>
              <a:buSzPct val="85000"/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reeform 721 Blk AT"/>
                <a:ea typeface="Lucida Sans Unicode"/>
              </a:rPr>
              <a:t>Trvá od 28.listopadu do 6. ledna  ( tedy 40 dní)</a:t>
            </a:r>
            <a:r>
              <a:rPr b="0" lang="en-GB" sz="1800" spc="-1" strike="noStrike">
                <a:solidFill>
                  <a:srgbClr val="ffffff"/>
                </a:solidFill>
                <a:latin typeface="Freeform 721 Blk AT"/>
                <a:ea typeface="Lucida Sans Unicode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451"/>
              </a:spcBef>
              <a:buClr>
                <a:srgbClr val="f3a447"/>
              </a:buClr>
              <a:buSzPct val="85000"/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reeform 721 Blk AT"/>
                <a:ea typeface="Lucida Sans Unicode"/>
              </a:rPr>
              <a:t>Od 2.ledna se půst zpřísňuj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451"/>
              </a:spcBef>
              <a:buClr>
                <a:srgbClr val="f3a447"/>
              </a:buClr>
              <a:buSzPct val="85000"/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reeform 721 Blk AT"/>
                <a:ea typeface="Lucida Sans Unicode"/>
              </a:rPr>
              <a:t>V podvečer je nejpřísnější prakticky hladově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451"/>
              </a:spcBef>
              <a:buClr>
                <a:srgbClr val="f3a447"/>
              </a:buClr>
              <a:buSzPct val="85000"/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reeform 721 Blk AT"/>
                <a:ea typeface="Lucida Sans Unicode"/>
              </a:rPr>
              <a:t>Netýká se pouze jídla, ale i hříšných váš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451"/>
              </a:spcBef>
              <a:buClr>
                <a:srgbClr val="f3a447"/>
              </a:buClr>
              <a:buSzPct val="85000"/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reeform 721 Blk AT"/>
                <a:ea typeface="Lucida Sans Unicode"/>
              </a:rPr>
              <a:t>Potrava se přijímá až večer po zvláštní bohoslužbě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451"/>
              </a:spcBef>
              <a:buClr>
                <a:srgbClr val="f3a447"/>
              </a:buClr>
              <a:buSzPct val="85000"/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reeform 721 Blk AT"/>
                <a:ea typeface="Lucida Sans Unicode"/>
              </a:rPr>
              <a:t>Konkrétně po vysvitnutí první hvěz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451"/>
              </a:spcBef>
              <a:buClr>
                <a:srgbClr val="f3a447"/>
              </a:buClr>
              <a:buSzPct val="85000"/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reeform 721 Blk AT"/>
                <a:ea typeface="Lucida Sans Unicode"/>
              </a:rPr>
              <a:t>Bohoslužba je nazývána Carskije ča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219240" y="225360"/>
            <a:ext cx="8474040" cy="1154160"/>
            <a:chOff x="219240" y="225360"/>
            <a:chExt cx="8474040" cy="1154160"/>
          </a:xfrm>
        </p:grpSpPr>
        <p:pic>
          <p:nvPicPr>
            <p:cNvPr id="325" name="" descr=""/>
            <p:cNvPicPr/>
            <p:nvPr/>
          </p:nvPicPr>
          <p:blipFill>
            <a:blip r:embed="rId2"/>
            <a:stretch/>
          </p:blipFill>
          <p:spPr>
            <a:xfrm>
              <a:off x="219240" y="225360"/>
              <a:ext cx="8474040" cy="11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219240" y="225360"/>
              <a:ext cx="8474040" cy="11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857920" y="3571920"/>
            <a:ext cx="2212920" cy="223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00000"/>
              </a:lnSpc>
              <a:spcBef>
                <a:spcPts val="451"/>
              </a:spcBef>
              <a:buClr>
                <a:srgbClr val="f3a447"/>
              </a:buClr>
              <a:buSzPct val="85000"/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reeform 721 Blk AT"/>
                <a:ea typeface="Lucida Sans Unicode"/>
              </a:rPr>
              <a:t>Dárky nosí Děda Mráz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51"/>
              </a:spcBef>
              <a:buClr>
                <a:srgbClr val="f3a447"/>
              </a:buClr>
              <a:buSzPct val="85000"/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reeform 721 Blk AT"/>
                <a:ea typeface="Lucida Sans Unicode"/>
              </a:rPr>
              <a:t>Sněhurka v  bílém kožíšku ušitém z hranostaj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51"/>
              </a:spcBef>
              <a:buClr>
                <a:srgbClr val="f3a447"/>
              </a:buClr>
              <a:buSzPct val="85000"/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reeform 721 Blk AT"/>
                <a:ea typeface="Lucida Sans Unicode"/>
              </a:rPr>
              <a:t>Trojice tažných ko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51"/>
              </a:spcBef>
              <a:buClr>
                <a:srgbClr val="f3a447"/>
              </a:buClr>
              <a:buSzPct val="85000"/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reeform 721 Blk AT"/>
                <a:ea typeface="Lucida Sans Unicode"/>
              </a:rPr>
              <a:t>Děda Mráz přijíždí se saněmi ze vzdálené Čukotk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51"/>
              </a:spcBef>
              <a:buClr>
                <a:srgbClr val="f3a447"/>
              </a:buClr>
              <a:buSzPct val="85000"/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reeform 721 Blk AT"/>
                <a:ea typeface="Lucida Sans Unicode"/>
              </a:rPr>
              <a:t>Dárky dává pod stromeč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219240" y="225360"/>
            <a:ext cx="8474040" cy="1154160"/>
            <a:chOff x="219240" y="225360"/>
            <a:chExt cx="8474040" cy="1154160"/>
          </a:xfrm>
        </p:grpSpPr>
        <p:pic>
          <p:nvPicPr>
            <p:cNvPr id="331" name="" descr=""/>
            <p:cNvPicPr/>
            <p:nvPr/>
          </p:nvPicPr>
          <p:blipFill>
            <a:blip r:embed="rId2"/>
            <a:stretch/>
          </p:blipFill>
          <p:spPr>
            <a:xfrm>
              <a:off x="219240" y="225360"/>
              <a:ext cx="8474040" cy="11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219240" y="225360"/>
              <a:ext cx="8474040" cy="11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763640" y="3789360"/>
            <a:ext cx="1724040" cy="160020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0" y="247644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4932360" y="3500280"/>
            <a:ext cx="1724040" cy="190512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0" y="43815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80000"/>
              </a:lnSpc>
              <a:spcBef>
                <a:spcPts val="451"/>
              </a:spcBef>
              <a:buClr>
                <a:srgbClr val="f3a447"/>
              </a:buClr>
              <a:buSzPct val="85000"/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reeform 721 Blk AT"/>
                <a:ea typeface="Lucida Sans Unicode"/>
              </a:rPr>
              <a:t>Kut´j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451"/>
              </a:spcBef>
              <a:buClr>
                <a:srgbClr val="f3a447"/>
              </a:buClr>
              <a:buSzPct val="85000"/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reeform 721 Blk AT"/>
                <a:ea typeface="Lucida Sans Unicode"/>
              </a:rPr>
              <a:t>(kaše z ječmene, vařená s medem rozinkami, mákem, ořechy )</a:t>
            </a:r>
            <a:r>
              <a:rPr b="0" lang="en-GB" sz="1800" spc="-1" strike="noStrike">
                <a:solidFill>
                  <a:srgbClr val="ffffff"/>
                </a:solidFill>
                <a:latin typeface="Freeform 721 Blk AT"/>
                <a:ea typeface="Lucida Sans Unicode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451"/>
              </a:spcBef>
              <a:buClr>
                <a:srgbClr val="f3a447"/>
              </a:buClr>
              <a:buSzPct val="85000"/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reeform 721 Blk AT"/>
                <a:ea typeface="Lucida Sans Unicode"/>
              </a:rPr>
              <a:t>Vzv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451"/>
              </a:spcBef>
              <a:buClr>
                <a:srgbClr val="f3a447"/>
              </a:buClr>
              <a:buSzPct val="85000"/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reeform 721 Blk AT"/>
                <a:ea typeface="Lucida Sans Unicode"/>
              </a:rPr>
              <a:t>(kompot ze sušeného ovoce)</a:t>
            </a:r>
            <a:r>
              <a:rPr b="0" lang="en-GB" sz="1800" spc="-1" strike="noStrike">
                <a:solidFill>
                  <a:srgbClr val="ffffff"/>
                </a:solidFill>
                <a:latin typeface="Freeform 721 Blk AT"/>
                <a:ea typeface="Lucida Sans Unicode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451"/>
              </a:spcBef>
              <a:buClr>
                <a:srgbClr val="f3a447"/>
              </a:buClr>
              <a:buSzPct val="85000"/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reeform 721 Blk AT"/>
                <a:ea typeface="Lucida Sans Unicode"/>
              </a:rPr>
              <a:t>Ruský salát Ol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451"/>
              </a:spcBef>
              <a:buClr>
                <a:srgbClr val="f3a447"/>
              </a:buClr>
              <a:buSzPct val="85000"/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reeform 721 Blk AT"/>
                <a:ea typeface="Lucida Sans Unicode"/>
              </a:rPr>
              <a:t>( úplne stejný jako bramborový, ale má svou legendu)</a:t>
            </a:r>
            <a:r>
              <a:rPr b="0" lang="en-GB" sz="1800" spc="-1" strike="noStrike">
                <a:solidFill>
                  <a:srgbClr val="ffffff"/>
                </a:solidFill>
                <a:latin typeface="Freeform 721 Blk AT"/>
                <a:ea typeface="Lucida Sans Unicode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451"/>
              </a:spcBef>
              <a:buClr>
                <a:srgbClr val="f3a447"/>
              </a:buClr>
              <a:buSzPct val="85000"/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reeform 721 Blk AT"/>
                <a:ea typeface="Lucida Sans Unicode"/>
              </a:rPr>
              <a:t>Speciální kuř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451"/>
              </a:spcBef>
              <a:buClr>
                <a:srgbClr val="f3a447"/>
              </a:buClr>
              <a:buSzPct val="85000"/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reeform 721 Blk AT"/>
                <a:ea typeface="Lucida Sans Unicode"/>
              </a:rPr>
              <a:t>(ani na medu, másle nebo kari, ale na láhvi)</a:t>
            </a:r>
            <a:r>
              <a:rPr b="0" lang="en-GB" sz="1800" spc="-1" strike="noStrike">
                <a:solidFill>
                  <a:srgbClr val="ffffff"/>
                </a:solidFill>
                <a:latin typeface="Freeform 721 Blk AT"/>
                <a:ea typeface="Lucida Sans Unicode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219240" y="225360"/>
            <a:ext cx="8474040" cy="1154160"/>
            <a:chOff x="219240" y="225360"/>
            <a:chExt cx="8474040" cy="1154160"/>
          </a:xfrm>
        </p:grpSpPr>
        <p:pic>
          <p:nvPicPr>
            <p:cNvPr id="340" name="" descr=""/>
            <p:cNvPicPr/>
            <p:nvPr/>
          </p:nvPicPr>
          <p:blipFill>
            <a:blip r:embed="rId2"/>
            <a:stretch/>
          </p:blipFill>
          <p:spPr>
            <a:xfrm>
              <a:off x="219240" y="225360"/>
              <a:ext cx="8474040" cy="11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219240" y="225360"/>
              <a:ext cx="8474040" cy="11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3640" y="3933720"/>
            <a:ext cx="3200400" cy="253368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0" y="253368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80000"/>
              </a:lnSpc>
              <a:spcBef>
                <a:spcPts val="451"/>
              </a:spcBef>
              <a:buClr>
                <a:srgbClr val="f3a447"/>
              </a:buClr>
              <a:buSzPct val="85000"/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reeform 721 Blk AT"/>
                <a:ea typeface="Lucida Sans Unicode"/>
              </a:rPr>
              <a:t>V roce 45 př.n.l. zavedený Juliem Caesar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451"/>
              </a:spcBef>
              <a:buClr>
                <a:srgbClr val="f3a447"/>
              </a:buClr>
              <a:buSzPct val="85000"/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reeform 721 Blk AT"/>
                <a:ea typeface="Lucida Sans Unicode"/>
              </a:rPr>
              <a:t>Byl reformou starořímského kalendáře ( jako sluneční)</a:t>
            </a:r>
            <a:r>
              <a:rPr b="0" lang="en-GB" sz="1800" spc="-1" strike="noStrike">
                <a:solidFill>
                  <a:srgbClr val="ffffff"/>
                </a:solidFill>
                <a:latin typeface="Freeform 721 Blk AT"/>
                <a:ea typeface="Lucida Sans Unicode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451"/>
              </a:spcBef>
              <a:buClr>
                <a:srgbClr val="f3a447"/>
              </a:buClr>
              <a:buSzPct val="85000"/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reeform 721 Blk AT"/>
                <a:ea typeface="Lucida Sans Unicode"/>
              </a:rPr>
              <a:t>Respektoval  např. počet dní v jednotlivých měsící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451"/>
              </a:spcBef>
              <a:buClr>
                <a:srgbClr val="f3a447"/>
              </a:buClr>
              <a:buSzPct val="85000"/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reeform 721 Blk AT"/>
                <a:ea typeface="Lucida Sans Unicode"/>
              </a:rPr>
              <a:t>Což přešlo později do Gregoriánského kalendář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451"/>
              </a:spcBef>
              <a:buClr>
                <a:srgbClr val="f3a447"/>
              </a:buClr>
              <a:buSzPct val="85000"/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reeform 721 Blk AT"/>
                <a:ea typeface="Lucida Sans Unicode"/>
              </a:rPr>
              <a:t>Používaný do roku 1582 ( pak nahrazen Gregoriánským)</a:t>
            </a:r>
            <a:r>
              <a:rPr b="0" lang="en-GB" sz="1800" spc="-1" strike="noStrike">
                <a:solidFill>
                  <a:srgbClr val="ffffff"/>
                </a:solidFill>
                <a:latin typeface="Freeform 721 Blk AT"/>
                <a:ea typeface="Lucida Sans Unicode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451"/>
              </a:spcBef>
              <a:buClr>
                <a:srgbClr val="f3a447"/>
              </a:buClr>
              <a:buSzPct val="85000"/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reeform 721 Blk AT"/>
                <a:ea typeface="Lucida Sans Unicode"/>
              </a:rPr>
              <a:t>Má přísné řazení obyčejných a přestupných let (zákonitosti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451"/>
              </a:spcBef>
              <a:buClr>
                <a:srgbClr val="f3a447"/>
              </a:buClr>
              <a:buSzPct val="85000"/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reeform 721 Blk AT"/>
                <a:ea typeface="Lucida Sans Unicode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Freeform 721 Blk AT"/>
                <a:ea typeface="Lucida Sans Unicode"/>
              </a:rPr>
              <a:t>28 letech opakování vztahu mezi dnem v  týdnu a da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451"/>
              </a:spcBef>
              <a:buClr>
                <a:srgbClr val="f3a447"/>
              </a:buClr>
              <a:buSzPct val="85000"/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reeform 721 Blk AT"/>
                <a:ea typeface="Lucida Sans Unicode"/>
              </a:rPr>
              <a:t>Po 19 letech opak vztahu mezi dny v měsíci a lunárním cykl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451"/>
              </a:spcBef>
              <a:buClr>
                <a:srgbClr val="f3a447"/>
              </a:buClr>
              <a:buSzPct val="85000"/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reeform 721 Blk AT"/>
                <a:ea typeface="Lucida Sans Unicode"/>
              </a:rPr>
              <a:t>Význam z náboženského hledis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451"/>
              </a:spcBef>
              <a:buClr>
                <a:srgbClr val="f3a447"/>
              </a:buClr>
              <a:buSzPct val="85000"/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reeform 721 Blk AT"/>
                <a:ea typeface="Lucida Sans Unicode"/>
              </a:rPr>
              <a:t>Velikonoce se stávají periodickými s periodou 532</a:t>
            </a:r>
            <a:r>
              <a:rPr b="0" lang="en-GB" sz="2000" spc="-1" strike="noStrike">
                <a:solidFill>
                  <a:srgbClr val="ffffff"/>
                </a:solidFill>
                <a:latin typeface="Freeform 721 Blk AT"/>
                <a:ea typeface="Lucida Sans Unicode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Freeform 721 Blk AT"/>
                <a:ea typeface="Lucida Sans Unicode"/>
              </a:rPr>
              <a:t>l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451"/>
              </a:spcBef>
              <a:buClr>
                <a:srgbClr val="f3a447"/>
              </a:buClr>
              <a:buSzPct val="85000"/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reeform 721 Blk AT"/>
                <a:ea typeface="Lucida Sans Unicode"/>
              </a:rPr>
              <a:t>(vlevo Juliánský kalendář a vpravo Gregoriánský kalendář)</a:t>
            </a:r>
            <a:r>
              <a:rPr b="0" lang="en-GB" sz="1800" spc="-1" strike="noStrike">
                <a:solidFill>
                  <a:srgbClr val="ffffff"/>
                </a:solidFill>
                <a:latin typeface="Freeform 721 Blk AT"/>
                <a:ea typeface="Lucida Sans Unicode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237960" y="30240"/>
            <a:ext cx="8455320" cy="1433520"/>
            <a:chOff x="237960" y="30240"/>
            <a:chExt cx="8455320" cy="1433520"/>
          </a:xfrm>
        </p:grpSpPr>
        <p:pic>
          <p:nvPicPr>
            <p:cNvPr id="347" name="" descr=""/>
            <p:cNvPicPr/>
            <p:nvPr/>
          </p:nvPicPr>
          <p:blipFill>
            <a:blip r:embed="rId2"/>
            <a:stretch/>
          </p:blipFill>
          <p:spPr>
            <a:xfrm>
              <a:off x="237960" y="30240"/>
              <a:ext cx="8455320" cy="14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237960" y="30240"/>
              <a:ext cx="8455320" cy="14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0" y="266688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332000" y="4869000"/>
            <a:ext cx="1257120" cy="121896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2160" y="38851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5"/>
          <a:stretch/>
        </p:blipFill>
        <p:spPr>
          <a:xfrm>
            <a:off x="5580000" y="4869000"/>
            <a:ext cx="1224000" cy="113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"/>
          <p:cNvGrpSpPr/>
          <p:nvPr/>
        </p:nvGrpSpPr>
        <p:grpSpPr>
          <a:xfrm>
            <a:off x="1122480" y="1494000"/>
            <a:ext cx="6735600" cy="1157040"/>
            <a:chOff x="1122480" y="1494000"/>
            <a:chExt cx="6735600" cy="1157040"/>
          </a:xfrm>
        </p:grpSpPr>
        <p:pic>
          <p:nvPicPr>
            <p:cNvPr id="354" name="" descr=""/>
            <p:cNvPicPr/>
            <p:nvPr/>
          </p:nvPicPr>
          <p:blipFill>
            <a:blip r:embed="rId2"/>
            <a:stretch/>
          </p:blipFill>
          <p:spPr>
            <a:xfrm>
              <a:off x="1122480" y="1494000"/>
              <a:ext cx="6735600" cy="115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>
              <a:off x="1122480" y="1494000"/>
              <a:ext cx="6735600" cy="11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1143000" y="4857840"/>
            <a:ext cx="6659640" cy="10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eeform 721 Blk AT"/>
              </a:rPr>
              <a:t>Made by Annamarie Mrázov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eeform 721 Blk AT"/>
              </a:rPr>
              <a:t>20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00000"/>
              </a:lnSpc>
              <a:spcBef>
                <a:spcPts val="451"/>
              </a:spcBef>
              <a:buClr>
                <a:srgbClr val="f3a447"/>
              </a:buClr>
              <a:buSzPct val="85000"/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 u="sng">
                <a:solidFill>
                  <a:srgbClr val="ffffff"/>
                </a:solidFill>
                <a:uFillTx/>
                <a:latin typeface="Freeform 721 Blk AT"/>
                <a:ea typeface="Lucida Sans Unicode"/>
              </a:rPr>
              <a:t>http://www.navychod.cz/?req=articleid=2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51"/>
              </a:spcBef>
              <a:buClr>
                <a:srgbClr val="f3a447"/>
              </a:buClr>
              <a:buSzPct val="85000"/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 u="sng">
                <a:solidFill>
                  <a:srgbClr val="ffffff"/>
                </a:solidFill>
                <a:uFillTx/>
                <a:latin typeface="Freeform 721 Blk AT"/>
                <a:ea typeface="Lucida Sans Unicode"/>
              </a:rPr>
              <a:t>http://www.rozhlas.cz/svet/portal/zprava/41434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51"/>
              </a:spcBef>
              <a:buClr>
                <a:srgbClr val="f3a447"/>
              </a:buClr>
              <a:buSzPct val="85000"/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 u="sng">
                <a:solidFill>
                  <a:srgbClr val="ffffff"/>
                </a:solidFill>
                <a:uFillTx/>
                <a:latin typeface="Freeform 721 Blk AT"/>
                <a:ea typeface="Lucida Sans Unicode"/>
              </a:rPr>
              <a:t>http://cs.wikipedia.org/wiki/JuliC3BD_kalendC3A1C59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451"/>
              </a:spcBef>
              <a:buClr>
                <a:srgbClr val="f3a447"/>
              </a:buClr>
              <a:buSzPct val="85000"/>
              <a:buFont typeface="Century Gothi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 u="sng">
                <a:solidFill>
                  <a:srgbClr val="ffffff"/>
                </a:solidFill>
                <a:uFillTx/>
                <a:latin typeface="Freeform 721 Blk AT"/>
                <a:ea typeface="Lucida Sans Unicode"/>
              </a:rPr>
              <a:t>http://www.stripky.cz/Vanoce/svet.html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219240" y="225360"/>
            <a:ext cx="8474040" cy="1154160"/>
            <a:chOff x="219240" y="225360"/>
            <a:chExt cx="8474040" cy="1154160"/>
          </a:xfrm>
        </p:grpSpPr>
        <p:pic>
          <p:nvPicPr>
            <p:cNvPr id="359" name="" descr=""/>
            <p:cNvPicPr/>
            <p:nvPr/>
          </p:nvPicPr>
          <p:blipFill>
            <a:blip r:embed="rId2"/>
            <a:stretch/>
          </p:blipFill>
          <p:spPr>
            <a:xfrm>
              <a:off x="219240" y="225360"/>
              <a:ext cx="8474040" cy="11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219240" y="225360"/>
              <a:ext cx="8474040" cy="11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H</cp:lastModifiedBy>
  <cp:revision>0</cp:revision>
  <dc:subject/>
  <dc:title>Projekt Rusko</dc:title>
</cp:coreProperties>
</file>