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395264-7046-47A8-99DD-7DBC18A2FB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E2C-DE4D-4640-9266-D7A509C8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5E0-5F3C-45E0-9F5B-69069E04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EC6-208D-483F-9D49-5AC91644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7BF-AAFF-43A2-8F56-0E598D41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64C-F892-4956-816B-A4DC3A88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448-5D25-42A7-871B-AB38A7C7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06DD-11CC-4212-BE45-E1B0F3BC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DC1-0866-4AA0-860A-17900E3A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A13-40E5-4B80-802F-6321A7A3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3FE-0DAF-42E1-9EEA-D54F5617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268-0313-442F-9438-E179FBA9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EF3-0947-4C12-80B4-41B957B1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237974-E5A5-4315-BBB5-9FB27EA8A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Japonsk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50920" y="2781360"/>
            <a:ext cx="4967280" cy="3581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689120" y="2421000"/>
            <a:ext cx="5619600" cy="63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Země vycházejícído slun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 advTm="15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952800" cy="5371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716360" y="2924280"/>
            <a:ext cx="4111560" cy="31082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00000" y="692280"/>
            <a:ext cx="7488360" cy="5622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68360" y="260280"/>
            <a:ext cx="4875480" cy="6264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3280" y="836640"/>
            <a:ext cx="4007160" cy="5317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4044960" cy="53290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70240" y="2852640"/>
            <a:ext cx="5694480" cy="3789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71160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3754440" cy="4997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222880" y="1052640"/>
            <a:ext cx="3191040" cy="49971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k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07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avní město Japonska. Leží na ostrově Honš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5832720" cy="3894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95640" y="189000"/>
            <a:ext cx="4892400" cy="6524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256360" cy="3935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140360" y="3068640"/>
            <a:ext cx="4679640" cy="34671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6156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7632720" cy="5805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209240"/>
            <a:ext cx="8229600" cy="39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e end</a:t>
            </a:r>
            <a:br>
              <a:rPr sz="9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ovaly:</a:t>
            </a:r>
            <a:br>
              <a:rPr sz="9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ška Šmídová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chaela Navrátilová</a:t>
            </a:r>
            <a:br>
              <a:rPr sz="9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chaela Horákov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7488000" cy="5616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60360" y="907920"/>
            <a:ext cx="8244000" cy="5229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d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649116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yšší hora Japonska, činná sop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480000" cy="4795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076720" y="981000"/>
            <a:ext cx="3687840" cy="4784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908000" y="3716280"/>
            <a:ext cx="3645000" cy="29210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v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27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ý si zaručeně všiml, jak pozoruhodné jsou japonské stav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19280" y="2637000"/>
            <a:ext cx="6121440" cy="39114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3552840" cy="5327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678200" y="836640"/>
            <a:ext cx="3997440" cy="5327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Administrator</cp:lastModifiedBy>
  <dcterms:modified xsi:type="dcterms:W3CDTF">2008-05-08T17:58:11Z</dcterms:modified>
  <cp:revision>1</cp:revision>
  <dc:subject/>
  <dc:title>Japonsko</dc:title>
</cp:coreProperties>
</file>