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7DC-451B-4606-8976-4E6A1787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5AF1-2CCC-41B0-8A6C-55C2D60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3CE-0B48-403B-A385-35775A2B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72F-E4D5-4CC5-8822-5946C209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C64-455F-4AAF-8E42-16F3521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B78-7C15-4B88-92CA-7A8ADB6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5B3-238A-4321-A386-90136625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05D-96F1-4D42-894D-91FA85A2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786-76DF-4230-ABCE-E219162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E28-C3BC-45AF-9A17-8400A7C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2EC-3BAB-4D5C-9A5D-F35372F4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9DE-9ACE-4C12-BB44-A59C18A1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F09-E471-4E06-83E4-2B3073D83F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ccff"/>
                </a:solidFill>
                <a:latin typeface="Shotgun AT"/>
              </a:rPr>
              <a:t>INDIE</a:t>
            </a:r>
            <a:endParaRPr b="0" lang="en-US" sz="9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NÁBOŽENSTVÍ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449400">
            <a:off x="779400" y="1744200"/>
            <a:ext cx="3394080" cy="442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Jací jsou v hinduismu (Indii) tři hlavní bohové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Brahma, Višna, Ši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Abraham, Višna, Ši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Brahma, Višeň, Ši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ZEMĚPIS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Jaká je nejvyšší hora Indie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 Sně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 Nanga Par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 Kančendžen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240" y="2022840"/>
            <a:ext cx="4422240" cy="3605760"/>
            <a:chOff x="4413240" y="2022840"/>
            <a:chExt cx="4422240" cy="36057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 rot="183600">
              <a:off x="4500360" y="2133720"/>
              <a:ext cx="4247640" cy="33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 rot="183600">
              <a:off x="4595760" y="2234520"/>
              <a:ext cx="4054680" cy="311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DĚJEPIS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1246000">
            <a:off x="609480" y="2504880"/>
            <a:ext cx="373392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cdf45"/>
                </a:solidFill>
                <a:latin typeface="Arial"/>
              </a:rPr>
              <a:t>Proč Šáhdžáhán nechal postavit Tádž Mahal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) Aby měl nejkrásnější sídlo na svět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) Na památku své předčasně zesnulé že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) Na počest 60. výročí samostatnosti Indické republi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VODSTVO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Která řeka má jméno podle Indie, kterou i protéká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Ind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Gan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Brahmaput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240000">
            <a:off x="4500360" y="2349360"/>
            <a:ext cx="42447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0e500"/>
                </a:solidFill>
                <a:latin typeface="Shotgun AT"/>
              </a:rPr>
              <a:t>ZÁKL. INFORMACE </a:t>
            </a:r>
            <a:r>
              <a:rPr b="0" lang="en-US" sz="2400" spc="-1" strike="noStrike">
                <a:solidFill>
                  <a:srgbClr val="f0e500"/>
                </a:solidFill>
                <a:latin typeface="Shotgun AT"/>
              </a:rPr>
              <a:t>(ŠKOLA)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988640"/>
            <a:ext cx="4254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Kolikátá nejlidnatější země na světě je Indie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rv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druh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tř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3240" y="2587680"/>
            <a:ext cx="3915720" cy="2977560"/>
            <a:chOff x="453240" y="2587680"/>
            <a:chExt cx="3915720" cy="29775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 rot="21372600">
              <a:off x="539280" y="2708280"/>
              <a:ext cx="3742920" cy="27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 rot="21372600">
              <a:off x="645840" y="2862360"/>
              <a:ext cx="3538440" cy="244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UCTÍVÁNÍ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Jaké zvíře se uctívá v Indii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s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krokodý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krá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250200">
            <a:off x="4427280" y="2565000"/>
            <a:ext cx="4038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INDICKÁ KUCHYNĚ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Jaké koření je typické pro indickou kuchyni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k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nové koř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hřebí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21243000">
            <a:off x="611280" y="2565000"/>
            <a:ext cx="3620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e500"/>
                </a:solidFill>
                <a:latin typeface="Shotgun AT"/>
              </a:rPr>
              <a:t>INDICKÁ RODINA</a:t>
            </a:r>
            <a:endParaRPr b="0" lang="en-US" sz="6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df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df45"/>
                </a:solidFill>
                <a:latin typeface="Arial"/>
              </a:rPr>
              <a:t>Co nejčastěji u Indů značí červené bindi (tečka na čele)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provdaná ž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vd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 svobodná ž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285000">
            <a:off x="5076720" y="2565360"/>
            <a:ext cx="3816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4:55:15Z</dcterms:created>
  <dc:creator>Kateřina</dc:creator>
  <dc:description/>
  <dc:language>en-US</dc:language>
  <cp:lastModifiedBy>Administrator</cp:lastModifiedBy>
  <dcterms:modified xsi:type="dcterms:W3CDTF">2008-05-08T16:50:56Z</dcterms:modified>
  <cp:revision>5</cp:revision>
  <dc:subject/>
  <dc:title>I N D I E</dc:title>
</cp:coreProperties>
</file>